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pct" ContentType="image/x-pict"/>
  <Override PartName="/ppt/media/image10.pct" ContentType="image/x-pict"/>
  <Override PartName="/ppt/media/image9.jpeg" ContentType="image/jpeg"/>
  <Override PartName="/ppt/media/image3.pct" ContentType="image/x-pict"/>
  <Override PartName="/ppt/media/image17.png" ContentType="image/png"/>
  <Override PartName="/ppt/media/image16.png" ContentType="image/png"/>
  <Override PartName="/ppt/media/image8.pct" ContentType="image/x-pict"/>
  <Override PartName="/ppt/media/image13.pct" ContentType="image/x-pict"/>
  <Override PartName="/ppt/media/image15.png" ContentType="image/png"/>
  <Override PartName="/ppt/media/image14.png" ContentType="image/png"/>
  <Override PartName="/ppt/media/image6.pct" ContentType="image/x-pict"/>
  <Override PartName="/ppt/media/image11.pct" ContentType="image/x-pict"/>
  <Override PartName="/ppt/media/image2.pct" ContentType="image/x-pict"/>
  <Override PartName="/ppt/media/image5.png" ContentType="image/png"/>
  <Override PartName="/ppt/media/image4.pct" ContentType="image/x-pict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1471-5DEF-4029-8AEE-849992762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A0D8-0A1A-4568-8592-D2E15D6BE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DBC1-B6C5-426C-B10D-C69AE772C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E4E2-9ED3-4075-BD4C-8A6A72046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F5F9-5DBD-4AA6-9D78-7BDD0BF31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BF78-0022-4491-9808-70068F502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ital National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ne program currently under development at NSF is the development of a digital library to support Science, Mathematics, Engineering, and Technology Edu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ECC8-335C-42EB-B996-8266A5FD5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23AF-F0A0-4257-B462-B190E4E8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924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875400"/>
            <a:ext cx="7924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D51B-B94C-464E-89D3-4523A1E9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396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87540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3960" y="387540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A20E-9A9A-4048-8E51-8A9447DEB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2640" y="1447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2480" y="1447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87540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2640" y="387540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2480" y="387540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3128-93FB-47D0-B44F-9A9B89E1D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F1C4-1847-40C0-A254-15BC086C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59EF-2CD6-4BD9-8615-B0900299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3960" y="144756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6516-DB43-4F2D-AF89-F4BCCC61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2CD1-2CDA-4B9B-B8EC-8C0531CE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228600"/>
            <a:ext cx="7924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043B-3A45-4C93-B947-01932EFB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144756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87540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C2D8-5FC5-456F-B9D6-23F84E5E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3960" y="387540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3302-6B6A-40C7-8932-4777B6B2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875400"/>
            <a:ext cx="7924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AA53-15AB-4256-8661-CA292223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4475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E, June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0746-C927-4655-BA93-EDE03E10B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8.pct"/><Relationship Id="rId5" Type="http://schemas.openxmlformats.org/officeDocument/2006/relationships/image" Target="../media/image6.pct"/><Relationship Id="rId6" Type="http://schemas.openxmlformats.org/officeDocument/2006/relationships/image" Target="../media/image9.jpeg"/><Relationship Id="rId7" Type="http://schemas.openxmlformats.org/officeDocument/2006/relationships/image" Target="../media/image10.pct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image" Target="../media/image12.pct"/><Relationship Id="rId4" Type="http://schemas.openxmlformats.org/officeDocument/2006/relationships/image" Target="../media/image6.pct"/><Relationship Id="rId5" Type="http://schemas.openxmlformats.org/officeDocument/2006/relationships/image" Target="../media/image13.pct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wards a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SMETE Digital Library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 www.smete.or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ilding Upon NEED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400" y="4571640"/>
            <a:ext cx="7391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andon Muramatsu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S Project Director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C Berkeley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Quality Review of Courseware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n the NEEDS Databas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66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Establish credibility of NEEDS as a source of </a:t>
            </a:r>
            <a:r>
              <a:rPr b="1" lang="en-US" sz="2600" spc="-1" strike="noStrike" u="sng">
                <a:solidFill>
                  <a:srgbClr val="006666"/>
                </a:solidFill>
                <a:uFillTx/>
                <a:latin typeface="Arial"/>
              </a:rPr>
              <a:t>Quality</a:t>
            </a: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 educational material</a:t>
            </a: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66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Enhance recognition of scholarly and creative effort of courseware developers</a:t>
            </a: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eer/Expert Review of Course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Premier Award for Excellence in Engineering Education Course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081920" y="344520"/>
            <a:ext cx="2057400" cy="8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The Premier Award for Excellence in Engineering Education Coursewar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 national competition to identify and reward the authors of high-quality, non-commercial courseware designed to enhance engineering education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remier Awar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about the entire experience of using the courseware by learners, not just the courseware itsel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 dissemination system to distribute the Premier Courseware (via CD’s and presentation at engineering education conferences)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242120" y="5334120"/>
          <a:ext cx="1216080" cy="144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42120" y="5334120"/>
                    <a:ext cx="121608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5867280" y="5410080"/>
            <a:ext cx="949320" cy="1371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7081920" y="344520"/>
            <a:ext cx="2057400" cy="874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914400" y="5362560"/>
            <a:ext cx="1828800" cy="1495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3048120" y="5791320"/>
            <a:ext cx="251460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29718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Virtual Disk Drive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Design Studio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Drill Dissection and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Bicycle Dissection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Mars Navigator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6019920"/>
            <a:ext cx="74678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more info or to receive copies go to http://www.needs.org/engineering/premier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919080" y="3886200"/>
            <a:ext cx="3119400" cy="17542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mier Courseware of 1997-1999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1447920"/>
            <a:ext cx="2743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Della Steam Pl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MDSol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tructural Engineering Visual Encyclopedia - UN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5732640"/>
            <a:ext cx="3429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,700 CD-ROMs Distribu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129120" y="3886200"/>
            <a:ext cx="3119400" cy="1752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7081920" y="344520"/>
            <a:ext cx="2057400" cy="874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5562720" y="3886200"/>
            <a:ext cx="3047760" cy="1709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638680" y="1447920"/>
            <a:ext cx="2743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ngineering Graph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racking D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914400" y="45716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ward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National Science, Mathematics, Engineering and Technology Education (SMETE)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gital Librar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eeds Assessment with Members of the 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Math, Science and Engineering Community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urpose: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understand the math, science and engineering communities of educators and examine their needs in order to design services and structures to support users from multiple communities.</a:t>
            </a:r>
            <a:endParaRPr b="1" lang="en-US" sz="2300" spc="-1" strike="noStrike">
              <a:solidFill>
                <a:srgbClr val="0066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earch Questions: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hat services, features &amp; programs are integral to success?</a:t>
            </a:r>
            <a:endParaRPr b="1" lang="en-US" sz="23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hat do users expect with regards to quality of the holdings?</a:t>
            </a:r>
            <a:endParaRPr b="1" lang="en-US" sz="23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ho makes up the SMETE digital library community?</a:t>
            </a:r>
            <a:endParaRPr b="1" lang="en-US" sz="23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556092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merican Association of Physics Teachers, American Mathematical Society, American Association for the Advancement of Science, members of the NSF Chemistry Consortia and the NSF Engineering Education Coal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Translating Findings into Services &amp; Featur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Quality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 to rapidly identify the quality of holding</a:t>
            </a: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 to comment about a learning object or regarding something of interest to the community</a:t>
            </a: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ers should include experts in pedagogy and content</a:t>
            </a: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Translating Findings into Services &amp; Featur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mmunity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bedded structures for developing and maintaining communication links</a:t>
            </a: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ing community should be on par with building content</a:t>
            </a: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ild on discipline based communities to establish connection to a broader community</a:t>
            </a: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ful content and community interaction ensures user participation as authors, reviewers, adapters/adopters, and consumers</a:t>
            </a: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8120" y="533520"/>
            <a:ext cx="5497560" cy="3673440"/>
          </a:xfrm>
          <a:custGeom>
            <a:avLst/>
            <a:gdLst/>
            <a:ahLst/>
            <a:rect l="l" t="t" r="r" b="b"/>
            <a:pathLst>
              <a:path w="3463" h="2314">
                <a:moveTo>
                  <a:pt x="3337" y="13"/>
                </a:moveTo>
                <a:lnTo>
                  <a:pt x="3318" y="0"/>
                </a:lnTo>
                <a:lnTo>
                  <a:pt x="3299" y="0"/>
                </a:lnTo>
                <a:lnTo>
                  <a:pt x="3287" y="2"/>
                </a:lnTo>
                <a:lnTo>
                  <a:pt x="3278" y="18"/>
                </a:lnTo>
                <a:lnTo>
                  <a:pt x="3263" y="13"/>
                </a:lnTo>
                <a:lnTo>
                  <a:pt x="3252" y="18"/>
                </a:lnTo>
                <a:lnTo>
                  <a:pt x="3244" y="41"/>
                </a:lnTo>
                <a:lnTo>
                  <a:pt x="3219" y="93"/>
                </a:lnTo>
                <a:lnTo>
                  <a:pt x="3231" y="125"/>
                </a:lnTo>
                <a:lnTo>
                  <a:pt x="3222" y="163"/>
                </a:lnTo>
                <a:lnTo>
                  <a:pt x="3230" y="179"/>
                </a:lnTo>
                <a:lnTo>
                  <a:pt x="3229" y="210"/>
                </a:lnTo>
                <a:lnTo>
                  <a:pt x="3225" y="238"/>
                </a:lnTo>
                <a:lnTo>
                  <a:pt x="3209" y="242"/>
                </a:lnTo>
                <a:lnTo>
                  <a:pt x="3198" y="226"/>
                </a:lnTo>
                <a:lnTo>
                  <a:pt x="3174" y="287"/>
                </a:lnTo>
                <a:lnTo>
                  <a:pt x="3129" y="300"/>
                </a:lnTo>
                <a:lnTo>
                  <a:pt x="3069" y="320"/>
                </a:lnTo>
                <a:lnTo>
                  <a:pt x="3026" y="331"/>
                </a:lnTo>
                <a:lnTo>
                  <a:pt x="2992" y="364"/>
                </a:lnTo>
                <a:lnTo>
                  <a:pt x="2970" y="399"/>
                </a:lnTo>
                <a:lnTo>
                  <a:pt x="2950" y="400"/>
                </a:lnTo>
                <a:lnTo>
                  <a:pt x="2928" y="438"/>
                </a:lnTo>
                <a:lnTo>
                  <a:pt x="2938" y="452"/>
                </a:lnTo>
                <a:lnTo>
                  <a:pt x="2943" y="483"/>
                </a:lnTo>
                <a:lnTo>
                  <a:pt x="2932" y="493"/>
                </a:lnTo>
                <a:lnTo>
                  <a:pt x="2917" y="516"/>
                </a:lnTo>
                <a:lnTo>
                  <a:pt x="2901" y="522"/>
                </a:lnTo>
                <a:lnTo>
                  <a:pt x="2895" y="537"/>
                </a:lnTo>
                <a:lnTo>
                  <a:pt x="2866" y="542"/>
                </a:lnTo>
                <a:lnTo>
                  <a:pt x="2826" y="543"/>
                </a:lnTo>
                <a:lnTo>
                  <a:pt x="2794" y="564"/>
                </a:lnTo>
                <a:lnTo>
                  <a:pt x="2798" y="599"/>
                </a:lnTo>
                <a:lnTo>
                  <a:pt x="2789" y="627"/>
                </a:lnTo>
                <a:lnTo>
                  <a:pt x="2763" y="665"/>
                </a:lnTo>
                <a:lnTo>
                  <a:pt x="2730" y="701"/>
                </a:lnTo>
                <a:lnTo>
                  <a:pt x="2696" y="714"/>
                </a:lnTo>
                <a:lnTo>
                  <a:pt x="2686" y="740"/>
                </a:lnTo>
                <a:lnTo>
                  <a:pt x="2619" y="770"/>
                </a:lnTo>
                <a:lnTo>
                  <a:pt x="2582" y="761"/>
                </a:lnTo>
                <a:lnTo>
                  <a:pt x="2575" y="752"/>
                </a:lnTo>
                <a:lnTo>
                  <a:pt x="2592" y="734"/>
                </a:lnTo>
                <a:lnTo>
                  <a:pt x="2594" y="710"/>
                </a:lnTo>
                <a:lnTo>
                  <a:pt x="2581" y="689"/>
                </a:lnTo>
                <a:lnTo>
                  <a:pt x="2594" y="680"/>
                </a:lnTo>
                <a:lnTo>
                  <a:pt x="2614" y="683"/>
                </a:lnTo>
                <a:lnTo>
                  <a:pt x="2611" y="638"/>
                </a:lnTo>
                <a:lnTo>
                  <a:pt x="2607" y="601"/>
                </a:lnTo>
                <a:lnTo>
                  <a:pt x="2596" y="567"/>
                </a:lnTo>
                <a:lnTo>
                  <a:pt x="2578" y="552"/>
                </a:lnTo>
                <a:lnTo>
                  <a:pt x="2554" y="543"/>
                </a:lnTo>
                <a:lnTo>
                  <a:pt x="2534" y="558"/>
                </a:lnTo>
                <a:lnTo>
                  <a:pt x="2515" y="586"/>
                </a:lnTo>
                <a:lnTo>
                  <a:pt x="2496" y="579"/>
                </a:lnTo>
                <a:lnTo>
                  <a:pt x="2504" y="566"/>
                </a:lnTo>
                <a:lnTo>
                  <a:pt x="2513" y="558"/>
                </a:lnTo>
                <a:lnTo>
                  <a:pt x="2525" y="549"/>
                </a:lnTo>
                <a:lnTo>
                  <a:pt x="2543" y="525"/>
                </a:lnTo>
                <a:lnTo>
                  <a:pt x="2529" y="477"/>
                </a:lnTo>
                <a:lnTo>
                  <a:pt x="2525" y="440"/>
                </a:lnTo>
                <a:lnTo>
                  <a:pt x="2496" y="433"/>
                </a:lnTo>
                <a:lnTo>
                  <a:pt x="2444" y="399"/>
                </a:lnTo>
                <a:lnTo>
                  <a:pt x="2414" y="414"/>
                </a:lnTo>
                <a:lnTo>
                  <a:pt x="2408" y="431"/>
                </a:lnTo>
                <a:lnTo>
                  <a:pt x="2415" y="445"/>
                </a:lnTo>
                <a:lnTo>
                  <a:pt x="2399" y="452"/>
                </a:lnTo>
                <a:lnTo>
                  <a:pt x="2399" y="480"/>
                </a:lnTo>
                <a:lnTo>
                  <a:pt x="2385" y="480"/>
                </a:lnTo>
                <a:lnTo>
                  <a:pt x="2363" y="502"/>
                </a:lnTo>
                <a:lnTo>
                  <a:pt x="2355" y="519"/>
                </a:lnTo>
                <a:lnTo>
                  <a:pt x="2347" y="537"/>
                </a:lnTo>
                <a:lnTo>
                  <a:pt x="2346" y="581"/>
                </a:lnTo>
                <a:lnTo>
                  <a:pt x="2342" y="630"/>
                </a:lnTo>
                <a:lnTo>
                  <a:pt x="2353" y="658"/>
                </a:lnTo>
                <a:lnTo>
                  <a:pt x="2368" y="704"/>
                </a:lnTo>
                <a:lnTo>
                  <a:pt x="2368" y="758"/>
                </a:lnTo>
                <a:lnTo>
                  <a:pt x="2355" y="821"/>
                </a:lnTo>
                <a:lnTo>
                  <a:pt x="2329" y="826"/>
                </a:lnTo>
                <a:lnTo>
                  <a:pt x="2313" y="814"/>
                </a:lnTo>
                <a:lnTo>
                  <a:pt x="2299" y="791"/>
                </a:lnTo>
                <a:lnTo>
                  <a:pt x="2285" y="758"/>
                </a:lnTo>
                <a:lnTo>
                  <a:pt x="2287" y="716"/>
                </a:lnTo>
                <a:lnTo>
                  <a:pt x="2287" y="686"/>
                </a:lnTo>
                <a:lnTo>
                  <a:pt x="2274" y="660"/>
                </a:lnTo>
                <a:lnTo>
                  <a:pt x="2276" y="604"/>
                </a:lnTo>
                <a:lnTo>
                  <a:pt x="2283" y="560"/>
                </a:lnTo>
                <a:lnTo>
                  <a:pt x="2286" y="537"/>
                </a:lnTo>
                <a:lnTo>
                  <a:pt x="2310" y="499"/>
                </a:lnTo>
                <a:lnTo>
                  <a:pt x="2297" y="483"/>
                </a:lnTo>
                <a:lnTo>
                  <a:pt x="2285" y="490"/>
                </a:lnTo>
                <a:lnTo>
                  <a:pt x="2276" y="512"/>
                </a:lnTo>
                <a:lnTo>
                  <a:pt x="2247" y="545"/>
                </a:lnTo>
                <a:lnTo>
                  <a:pt x="2263" y="517"/>
                </a:lnTo>
                <a:lnTo>
                  <a:pt x="2265" y="498"/>
                </a:lnTo>
                <a:lnTo>
                  <a:pt x="2259" y="474"/>
                </a:lnTo>
                <a:lnTo>
                  <a:pt x="2263" y="453"/>
                </a:lnTo>
                <a:lnTo>
                  <a:pt x="2276" y="433"/>
                </a:lnTo>
                <a:lnTo>
                  <a:pt x="2278" y="405"/>
                </a:lnTo>
                <a:lnTo>
                  <a:pt x="2285" y="389"/>
                </a:lnTo>
                <a:lnTo>
                  <a:pt x="2289" y="415"/>
                </a:lnTo>
                <a:lnTo>
                  <a:pt x="2315" y="417"/>
                </a:lnTo>
                <a:lnTo>
                  <a:pt x="2329" y="400"/>
                </a:lnTo>
                <a:lnTo>
                  <a:pt x="2355" y="388"/>
                </a:lnTo>
                <a:lnTo>
                  <a:pt x="2382" y="385"/>
                </a:lnTo>
                <a:lnTo>
                  <a:pt x="2393" y="396"/>
                </a:lnTo>
                <a:lnTo>
                  <a:pt x="2414" y="391"/>
                </a:lnTo>
                <a:lnTo>
                  <a:pt x="2445" y="384"/>
                </a:lnTo>
                <a:lnTo>
                  <a:pt x="2462" y="382"/>
                </a:lnTo>
                <a:lnTo>
                  <a:pt x="2465" y="367"/>
                </a:lnTo>
                <a:lnTo>
                  <a:pt x="2467" y="367"/>
                </a:lnTo>
                <a:lnTo>
                  <a:pt x="2454" y="349"/>
                </a:lnTo>
                <a:lnTo>
                  <a:pt x="2435" y="341"/>
                </a:lnTo>
                <a:lnTo>
                  <a:pt x="2405" y="330"/>
                </a:lnTo>
                <a:lnTo>
                  <a:pt x="2379" y="330"/>
                </a:lnTo>
                <a:lnTo>
                  <a:pt x="2363" y="327"/>
                </a:lnTo>
                <a:lnTo>
                  <a:pt x="2355" y="315"/>
                </a:lnTo>
                <a:lnTo>
                  <a:pt x="2324" y="310"/>
                </a:lnTo>
                <a:lnTo>
                  <a:pt x="2297" y="316"/>
                </a:lnTo>
                <a:lnTo>
                  <a:pt x="2276" y="320"/>
                </a:lnTo>
                <a:lnTo>
                  <a:pt x="2257" y="341"/>
                </a:lnTo>
                <a:lnTo>
                  <a:pt x="2229" y="327"/>
                </a:lnTo>
                <a:lnTo>
                  <a:pt x="2207" y="316"/>
                </a:lnTo>
                <a:lnTo>
                  <a:pt x="2180" y="330"/>
                </a:lnTo>
                <a:lnTo>
                  <a:pt x="2162" y="322"/>
                </a:lnTo>
                <a:lnTo>
                  <a:pt x="2182" y="291"/>
                </a:lnTo>
                <a:lnTo>
                  <a:pt x="2176" y="280"/>
                </a:lnTo>
                <a:lnTo>
                  <a:pt x="2166" y="284"/>
                </a:lnTo>
                <a:lnTo>
                  <a:pt x="2139" y="320"/>
                </a:lnTo>
                <a:lnTo>
                  <a:pt x="2118" y="347"/>
                </a:lnTo>
                <a:lnTo>
                  <a:pt x="2098" y="378"/>
                </a:lnTo>
                <a:lnTo>
                  <a:pt x="2068" y="374"/>
                </a:lnTo>
                <a:lnTo>
                  <a:pt x="2057" y="340"/>
                </a:lnTo>
                <a:lnTo>
                  <a:pt x="2046" y="341"/>
                </a:lnTo>
                <a:lnTo>
                  <a:pt x="2036" y="367"/>
                </a:lnTo>
                <a:lnTo>
                  <a:pt x="2001" y="368"/>
                </a:lnTo>
                <a:lnTo>
                  <a:pt x="2038" y="316"/>
                </a:lnTo>
                <a:lnTo>
                  <a:pt x="2126" y="257"/>
                </a:lnTo>
                <a:lnTo>
                  <a:pt x="2131" y="242"/>
                </a:lnTo>
                <a:lnTo>
                  <a:pt x="2083" y="244"/>
                </a:lnTo>
                <a:lnTo>
                  <a:pt x="2033" y="225"/>
                </a:lnTo>
                <a:lnTo>
                  <a:pt x="2015" y="251"/>
                </a:lnTo>
                <a:lnTo>
                  <a:pt x="1977" y="236"/>
                </a:lnTo>
                <a:lnTo>
                  <a:pt x="1951" y="246"/>
                </a:lnTo>
                <a:lnTo>
                  <a:pt x="1935" y="216"/>
                </a:lnTo>
                <a:lnTo>
                  <a:pt x="1892" y="218"/>
                </a:lnTo>
                <a:lnTo>
                  <a:pt x="1879" y="232"/>
                </a:lnTo>
                <a:lnTo>
                  <a:pt x="1831" y="198"/>
                </a:lnTo>
                <a:lnTo>
                  <a:pt x="1824" y="166"/>
                </a:lnTo>
                <a:lnTo>
                  <a:pt x="1770" y="154"/>
                </a:lnTo>
                <a:lnTo>
                  <a:pt x="1794" y="198"/>
                </a:lnTo>
                <a:lnTo>
                  <a:pt x="978" y="169"/>
                </a:lnTo>
                <a:lnTo>
                  <a:pt x="928" y="155"/>
                </a:lnTo>
                <a:lnTo>
                  <a:pt x="841" y="143"/>
                </a:lnTo>
                <a:lnTo>
                  <a:pt x="731" y="125"/>
                </a:lnTo>
                <a:lnTo>
                  <a:pt x="593" y="111"/>
                </a:lnTo>
                <a:lnTo>
                  <a:pt x="541" y="100"/>
                </a:lnTo>
                <a:lnTo>
                  <a:pt x="466" y="87"/>
                </a:lnTo>
                <a:lnTo>
                  <a:pt x="412" y="74"/>
                </a:lnTo>
                <a:lnTo>
                  <a:pt x="269" y="27"/>
                </a:lnTo>
                <a:lnTo>
                  <a:pt x="260" y="32"/>
                </a:lnTo>
                <a:lnTo>
                  <a:pt x="263" y="53"/>
                </a:lnTo>
                <a:lnTo>
                  <a:pt x="272" y="77"/>
                </a:lnTo>
                <a:lnTo>
                  <a:pt x="264" y="89"/>
                </a:lnTo>
                <a:lnTo>
                  <a:pt x="255" y="98"/>
                </a:lnTo>
                <a:lnTo>
                  <a:pt x="260" y="116"/>
                </a:lnTo>
                <a:lnTo>
                  <a:pt x="282" y="154"/>
                </a:lnTo>
                <a:lnTo>
                  <a:pt x="264" y="179"/>
                </a:lnTo>
                <a:lnTo>
                  <a:pt x="255" y="212"/>
                </a:lnTo>
                <a:lnTo>
                  <a:pt x="232" y="212"/>
                </a:lnTo>
                <a:lnTo>
                  <a:pt x="251" y="197"/>
                </a:lnTo>
                <a:lnTo>
                  <a:pt x="258" y="179"/>
                </a:lnTo>
                <a:lnTo>
                  <a:pt x="253" y="163"/>
                </a:lnTo>
                <a:lnTo>
                  <a:pt x="242" y="158"/>
                </a:lnTo>
                <a:lnTo>
                  <a:pt x="246" y="146"/>
                </a:lnTo>
                <a:lnTo>
                  <a:pt x="263" y="151"/>
                </a:lnTo>
                <a:lnTo>
                  <a:pt x="263" y="141"/>
                </a:lnTo>
                <a:lnTo>
                  <a:pt x="253" y="113"/>
                </a:lnTo>
                <a:lnTo>
                  <a:pt x="240" y="111"/>
                </a:lnTo>
                <a:lnTo>
                  <a:pt x="213" y="107"/>
                </a:lnTo>
                <a:lnTo>
                  <a:pt x="193" y="85"/>
                </a:lnTo>
                <a:lnTo>
                  <a:pt x="179" y="74"/>
                </a:lnTo>
                <a:lnTo>
                  <a:pt x="163" y="67"/>
                </a:lnTo>
                <a:lnTo>
                  <a:pt x="152" y="87"/>
                </a:lnTo>
                <a:lnTo>
                  <a:pt x="159" y="118"/>
                </a:lnTo>
                <a:lnTo>
                  <a:pt x="163" y="144"/>
                </a:lnTo>
                <a:lnTo>
                  <a:pt x="160" y="177"/>
                </a:lnTo>
                <a:lnTo>
                  <a:pt x="159" y="205"/>
                </a:lnTo>
                <a:lnTo>
                  <a:pt x="163" y="216"/>
                </a:lnTo>
                <a:lnTo>
                  <a:pt x="173" y="238"/>
                </a:lnTo>
                <a:lnTo>
                  <a:pt x="163" y="253"/>
                </a:lnTo>
                <a:lnTo>
                  <a:pt x="163" y="266"/>
                </a:lnTo>
                <a:lnTo>
                  <a:pt x="165" y="289"/>
                </a:lnTo>
                <a:lnTo>
                  <a:pt x="150" y="297"/>
                </a:lnTo>
                <a:lnTo>
                  <a:pt x="139" y="348"/>
                </a:lnTo>
                <a:lnTo>
                  <a:pt x="128" y="394"/>
                </a:lnTo>
                <a:lnTo>
                  <a:pt x="112" y="441"/>
                </a:lnTo>
                <a:lnTo>
                  <a:pt x="91" y="477"/>
                </a:lnTo>
                <a:lnTo>
                  <a:pt x="72" y="525"/>
                </a:lnTo>
                <a:lnTo>
                  <a:pt x="52" y="555"/>
                </a:lnTo>
                <a:lnTo>
                  <a:pt x="52" y="626"/>
                </a:lnTo>
                <a:lnTo>
                  <a:pt x="52" y="689"/>
                </a:lnTo>
                <a:lnTo>
                  <a:pt x="45" y="714"/>
                </a:lnTo>
                <a:lnTo>
                  <a:pt x="25" y="754"/>
                </a:lnTo>
                <a:lnTo>
                  <a:pt x="0" y="797"/>
                </a:lnTo>
                <a:lnTo>
                  <a:pt x="25" y="853"/>
                </a:lnTo>
                <a:lnTo>
                  <a:pt x="18" y="900"/>
                </a:lnTo>
                <a:lnTo>
                  <a:pt x="11" y="932"/>
                </a:lnTo>
                <a:lnTo>
                  <a:pt x="32" y="988"/>
                </a:lnTo>
                <a:lnTo>
                  <a:pt x="47" y="1024"/>
                </a:lnTo>
                <a:lnTo>
                  <a:pt x="69" y="1040"/>
                </a:lnTo>
                <a:lnTo>
                  <a:pt x="90" y="1014"/>
                </a:lnTo>
                <a:lnTo>
                  <a:pt x="96" y="1031"/>
                </a:lnTo>
                <a:lnTo>
                  <a:pt x="103" y="1044"/>
                </a:lnTo>
                <a:lnTo>
                  <a:pt x="81" y="1047"/>
                </a:lnTo>
                <a:lnTo>
                  <a:pt x="83" y="1064"/>
                </a:lnTo>
                <a:lnTo>
                  <a:pt x="63" y="1054"/>
                </a:lnTo>
                <a:lnTo>
                  <a:pt x="66" y="1089"/>
                </a:lnTo>
                <a:lnTo>
                  <a:pt x="75" y="1119"/>
                </a:lnTo>
                <a:lnTo>
                  <a:pt x="78" y="1143"/>
                </a:lnTo>
                <a:lnTo>
                  <a:pt x="105" y="1137"/>
                </a:lnTo>
                <a:lnTo>
                  <a:pt x="101" y="1148"/>
                </a:lnTo>
                <a:lnTo>
                  <a:pt x="78" y="1165"/>
                </a:lnTo>
                <a:lnTo>
                  <a:pt x="78" y="1202"/>
                </a:lnTo>
                <a:lnTo>
                  <a:pt x="109" y="1238"/>
                </a:lnTo>
                <a:lnTo>
                  <a:pt x="121" y="1251"/>
                </a:lnTo>
                <a:lnTo>
                  <a:pt x="113" y="1265"/>
                </a:lnTo>
                <a:lnTo>
                  <a:pt x="123" y="1287"/>
                </a:lnTo>
                <a:lnTo>
                  <a:pt x="128" y="1313"/>
                </a:lnTo>
                <a:lnTo>
                  <a:pt x="136" y="1329"/>
                </a:lnTo>
                <a:lnTo>
                  <a:pt x="141" y="1349"/>
                </a:lnTo>
                <a:lnTo>
                  <a:pt x="142" y="1369"/>
                </a:lnTo>
                <a:lnTo>
                  <a:pt x="136" y="1382"/>
                </a:lnTo>
                <a:lnTo>
                  <a:pt x="157" y="1388"/>
                </a:lnTo>
                <a:lnTo>
                  <a:pt x="176" y="1390"/>
                </a:lnTo>
                <a:lnTo>
                  <a:pt x="193" y="1385"/>
                </a:lnTo>
                <a:lnTo>
                  <a:pt x="213" y="1388"/>
                </a:lnTo>
                <a:lnTo>
                  <a:pt x="219" y="1407"/>
                </a:lnTo>
                <a:lnTo>
                  <a:pt x="223" y="1422"/>
                </a:lnTo>
                <a:lnTo>
                  <a:pt x="244" y="1447"/>
                </a:lnTo>
                <a:lnTo>
                  <a:pt x="253" y="1457"/>
                </a:lnTo>
                <a:lnTo>
                  <a:pt x="263" y="1477"/>
                </a:lnTo>
                <a:lnTo>
                  <a:pt x="264" y="1489"/>
                </a:lnTo>
                <a:lnTo>
                  <a:pt x="284" y="1502"/>
                </a:lnTo>
                <a:lnTo>
                  <a:pt x="301" y="1519"/>
                </a:lnTo>
                <a:lnTo>
                  <a:pt x="318" y="1548"/>
                </a:lnTo>
                <a:lnTo>
                  <a:pt x="322" y="1585"/>
                </a:lnTo>
                <a:lnTo>
                  <a:pt x="320" y="1605"/>
                </a:lnTo>
                <a:lnTo>
                  <a:pt x="338" y="1609"/>
                </a:lnTo>
                <a:lnTo>
                  <a:pt x="358" y="1603"/>
                </a:lnTo>
                <a:lnTo>
                  <a:pt x="376" y="1602"/>
                </a:lnTo>
                <a:lnTo>
                  <a:pt x="405" y="1603"/>
                </a:lnTo>
                <a:lnTo>
                  <a:pt x="432" y="1605"/>
                </a:lnTo>
                <a:lnTo>
                  <a:pt x="471" y="1605"/>
                </a:lnTo>
                <a:lnTo>
                  <a:pt x="495" y="1609"/>
                </a:lnTo>
                <a:lnTo>
                  <a:pt x="500" y="1625"/>
                </a:lnTo>
                <a:lnTo>
                  <a:pt x="494" y="1641"/>
                </a:lnTo>
                <a:lnTo>
                  <a:pt x="524" y="1663"/>
                </a:lnTo>
                <a:lnTo>
                  <a:pt x="555" y="1680"/>
                </a:lnTo>
                <a:lnTo>
                  <a:pt x="612" y="1713"/>
                </a:lnTo>
                <a:lnTo>
                  <a:pt x="655" y="1739"/>
                </a:lnTo>
                <a:lnTo>
                  <a:pt x="702" y="1758"/>
                </a:lnTo>
                <a:lnTo>
                  <a:pt x="750" y="1777"/>
                </a:lnTo>
                <a:lnTo>
                  <a:pt x="781" y="1779"/>
                </a:lnTo>
                <a:lnTo>
                  <a:pt x="809" y="1776"/>
                </a:lnTo>
                <a:lnTo>
                  <a:pt x="852" y="1781"/>
                </a:lnTo>
                <a:lnTo>
                  <a:pt x="880" y="1786"/>
                </a:lnTo>
                <a:lnTo>
                  <a:pt x="910" y="1783"/>
                </a:lnTo>
                <a:lnTo>
                  <a:pt x="939" y="1791"/>
                </a:lnTo>
                <a:lnTo>
                  <a:pt x="964" y="1789"/>
                </a:lnTo>
                <a:lnTo>
                  <a:pt x="967" y="1752"/>
                </a:lnTo>
                <a:lnTo>
                  <a:pt x="1011" y="1757"/>
                </a:lnTo>
                <a:lnTo>
                  <a:pt x="1063" y="1758"/>
                </a:lnTo>
                <a:lnTo>
                  <a:pt x="1105" y="1812"/>
                </a:lnTo>
                <a:lnTo>
                  <a:pt x="1155" y="1858"/>
                </a:lnTo>
                <a:lnTo>
                  <a:pt x="1184" y="1893"/>
                </a:lnTo>
                <a:lnTo>
                  <a:pt x="1185" y="1923"/>
                </a:lnTo>
                <a:lnTo>
                  <a:pt x="1195" y="1957"/>
                </a:lnTo>
                <a:lnTo>
                  <a:pt x="1214" y="1979"/>
                </a:lnTo>
                <a:lnTo>
                  <a:pt x="1235" y="2001"/>
                </a:lnTo>
                <a:lnTo>
                  <a:pt x="1295" y="2042"/>
                </a:lnTo>
                <a:lnTo>
                  <a:pt x="1316" y="2036"/>
                </a:lnTo>
                <a:lnTo>
                  <a:pt x="1328" y="2024"/>
                </a:lnTo>
                <a:lnTo>
                  <a:pt x="1335" y="1999"/>
                </a:lnTo>
                <a:lnTo>
                  <a:pt x="1341" y="1979"/>
                </a:lnTo>
                <a:lnTo>
                  <a:pt x="1364" y="1978"/>
                </a:lnTo>
                <a:lnTo>
                  <a:pt x="1390" y="1979"/>
                </a:lnTo>
                <a:lnTo>
                  <a:pt x="1424" y="1987"/>
                </a:lnTo>
                <a:lnTo>
                  <a:pt x="1443" y="2003"/>
                </a:lnTo>
                <a:lnTo>
                  <a:pt x="1468" y="2014"/>
                </a:lnTo>
                <a:lnTo>
                  <a:pt x="1475" y="2034"/>
                </a:lnTo>
                <a:lnTo>
                  <a:pt x="1488" y="2066"/>
                </a:lnTo>
                <a:lnTo>
                  <a:pt x="1500" y="2097"/>
                </a:lnTo>
                <a:lnTo>
                  <a:pt x="1514" y="2121"/>
                </a:lnTo>
                <a:lnTo>
                  <a:pt x="1540" y="2137"/>
                </a:lnTo>
                <a:lnTo>
                  <a:pt x="1560" y="2162"/>
                </a:lnTo>
                <a:lnTo>
                  <a:pt x="1569" y="2197"/>
                </a:lnTo>
                <a:lnTo>
                  <a:pt x="1576" y="2224"/>
                </a:lnTo>
                <a:lnTo>
                  <a:pt x="1593" y="2272"/>
                </a:lnTo>
                <a:lnTo>
                  <a:pt x="1616" y="2277"/>
                </a:lnTo>
                <a:lnTo>
                  <a:pt x="1642" y="2289"/>
                </a:lnTo>
                <a:lnTo>
                  <a:pt x="1669" y="2296"/>
                </a:lnTo>
                <a:lnTo>
                  <a:pt x="1703" y="2298"/>
                </a:lnTo>
                <a:lnTo>
                  <a:pt x="1723" y="2313"/>
                </a:lnTo>
                <a:lnTo>
                  <a:pt x="1770" y="2310"/>
                </a:lnTo>
                <a:lnTo>
                  <a:pt x="1772" y="2274"/>
                </a:lnTo>
                <a:lnTo>
                  <a:pt x="1746" y="2247"/>
                </a:lnTo>
                <a:lnTo>
                  <a:pt x="1741" y="2208"/>
                </a:lnTo>
                <a:lnTo>
                  <a:pt x="1760" y="2182"/>
                </a:lnTo>
                <a:lnTo>
                  <a:pt x="1759" y="2153"/>
                </a:lnTo>
                <a:lnTo>
                  <a:pt x="1766" y="2146"/>
                </a:lnTo>
                <a:lnTo>
                  <a:pt x="1768" y="2124"/>
                </a:lnTo>
                <a:lnTo>
                  <a:pt x="1784" y="2113"/>
                </a:lnTo>
                <a:lnTo>
                  <a:pt x="1815" y="2089"/>
                </a:lnTo>
                <a:lnTo>
                  <a:pt x="1831" y="2089"/>
                </a:lnTo>
                <a:lnTo>
                  <a:pt x="1869" y="2063"/>
                </a:lnTo>
                <a:lnTo>
                  <a:pt x="1892" y="2039"/>
                </a:lnTo>
                <a:lnTo>
                  <a:pt x="1929" y="2014"/>
                </a:lnTo>
                <a:lnTo>
                  <a:pt x="1920" y="1983"/>
                </a:lnTo>
                <a:lnTo>
                  <a:pt x="1929" y="1975"/>
                </a:lnTo>
                <a:lnTo>
                  <a:pt x="1939" y="2008"/>
                </a:lnTo>
                <a:lnTo>
                  <a:pt x="1990" y="1960"/>
                </a:lnTo>
                <a:lnTo>
                  <a:pt x="2032" y="1961"/>
                </a:lnTo>
                <a:lnTo>
                  <a:pt x="2088" y="1975"/>
                </a:lnTo>
                <a:lnTo>
                  <a:pt x="2132" y="1967"/>
                </a:lnTo>
                <a:lnTo>
                  <a:pt x="2153" y="1965"/>
                </a:lnTo>
                <a:lnTo>
                  <a:pt x="2142" y="1943"/>
                </a:lnTo>
                <a:lnTo>
                  <a:pt x="2161" y="1945"/>
                </a:lnTo>
                <a:lnTo>
                  <a:pt x="2174" y="1963"/>
                </a:lnTo>
                <a:lnTo>
                  <a:pt x="2174" y="1978"/>
                </a:lnTo>
                <a:lnTo>
                  <a:pt x="2216" y="1981"/>
                </a:lnTo>
                <a:lnTo>
                  <a:pt x="2236" y="1983"/>
                </a:lnTo>
                <a:lnTo>
                  <a:pt x="2245" y="1973"/>
                </a:lnTo>
                <a:lnTo>
                  <a:pt x="2260" y="1990"/>
                </a:lnTo>
                <a:lnTo>
                  <a:pt x="2274" y="1994"/>
                </a:lnTo>
                <a:lnTo>
                  <a:pt x="2291" y="1990"/>
                </a:lnTo>
                <a:lnTo>
                  <a:pt x="2278" y="1965"/>
                </a:lnTo>
                <a:lnTo>
                  <a:pt x="2298" y="1963"/>
                </a:lnTo>
                <a:lnTo>
                  <a:pt x="2310" y="1970"/>
                </a:lnTo>
                <a:lnTo>
                  <a:pt x="2328" y="1986"/>
                </a:lnTo>
                <a:lnTo>
                  <a:pt x="2341" y="1981"/>
                </a:lnTo>
                <a:lnTo>
                  <a:pt x="2353" y="1966"/>
                </a:lnTo>
                <a:lnTo>
                  <a:pt x="2345" y="1945"/>
                </a:lnTo>
                <a:lnTo>
                  <a:pt x="2327" y="1939"/>
                </a:lnTo>
                <a:lnTo>
                  <a:pt x="2316" y="1927"/>
                </a:lnTo>
                <a:lnTo>
                  <a:pt x="2324" y="1906"/>
                </a:lnTo>
                <a:lnTo>
                  <a:pt x="2323" y="1886"/>
                </a:lnTo>
                <a:lnTo>
                  <a:pt x="2305" y="1886"/>
                </a:lnTo>
                <a:lnTo>
                  <a:pt x="2287" y="1906"/>
                </a:lnTo>
                <a:lnTo>
                  <a:pt x="2286" y="1880"/>
                </a:lnTo>
                <a:lnTo>
                  <a:pt x="2263" y="1895"/>
                </a:lnTo>
                <a:lnTo>
                  <a:pt x="2245" y="1902"/>
                </a:lnTo>
                <a:lnTo>
                  <a:pt x="2237" y="1888"/>
                </a:lnTo>
                <a:lnTo>
                  <a:pt x="2254" y="1865"/>
                </a:lnTo>
                <a:lnTo>
                  <a:pt x="2310" y="1878"/>
                </a:lnTo>
                <a:lnTo>
                  <a:pt x="2323" y="1853"/>
                </a:lnTo>
                <a:lnTo>
                  <a:pt x="2352" y="1844"/>
                </a:lnTo>
                <a:lnTo>
                  <a:pt x="2385" y="1853"/>
                </a:lnTo>
                <a:lnTo>
                  <a:pt x="2397" y="1844"/>
                </a:lnTo>
                <a:lnTo>
                  <a:pt x="2397" y="1814"/>
                </a:lnTo>
                <a:lnTo>
                  <a:pt x="2414" y="1851"/>
                </a:lnTo>
                <a:lnTo>
                  <a:pt x="2419" y="1865"/>
                </a:lnTo>
                <a:lnTo>
                  <a:pt x="2444" y="1850"/>
                </a:lnTo>
                <a:lnTo>
                  <a:pt x="2464" y="1826"/>
                </a:lnTo>
                <a:lnTo>
                  <a:pt x="2473" y="1841"/>
                </a:lnTo>
                <a:lnTo>
                  <a:pt x="2489" y="1847"/>
                </a:lnTo>
                <a:lnTo>
                  <a:pt x="2515" y="1835"/>
                </a:lnTo>
                <a:lnTo>
                  <a:pt x="2571" y="1824"/>
                </a:lnTo>
                <a:lnTo>
                  <a:pt x="2582" y="1838"/>
                </a:lnTo>
                <a:lnTo>
                  <a:pt x="2596" y="1855"/>
                </a:lnTo>
                <a:lnTo>
                  <a:pt x="2618" y="1860"/>
                </a:lnTo>
                <a:lnTo>
                  <a:pt x="2640" y="1862"/>
                </a:lnTo>
                <a:lnTo>
                  <a:pt x="2666" y="1851"/>
                </a:lnTo>
                <a:lnTo>
                  <a:pt x="2683" y="1833"/>
                </a:lnTo>
                <a:lnTo>
                  <a:pt x="2697" y="1827"/>
                </a:lnTo>
                <a:lnTo>
                  <a:pt x="2708" y="1835"/>
                </a:lnTo>
                <a:lnTo>
                  <a:pt x="2722" y="1851"/>
                </a:lnTo>
                <a:lnTo>
                  <a:pt x="2742" y="1871"/>
                </a:lnTo>
                <a:lnTo>
                  <a:pt x="2762" y="1878"/>
                </a:lnTo>
                <a:lnTo>
                  <a:pt x="2778" y="1881"/>
                </a:lnTo>
                <a:lnTo>
                  <a:pt x="2795" y="1901"/>
                </a:lnTo>
                <a:lnTo>
                  <a:pt x="2807" y="1923"/>
                </a:lnTo>
                <a:lnTo>
                  <a:pt x="2821" y="1939"/>
                </a:lnTo>
                <a:lnTo>
                  <a:pt x="2815" y="1970"/>
                </a:lnTo>
                <a:lnTo>
                  <a:pt x="2816" y="1996"/>
                </a:lnTo>
                <a:lnTo>
                  <a:pt x="2816" y="2014"/>
                </a:lnTo>
                <a:lnTo>
                  <a:pt x="2822" y="2029"/>
                </a:lnTo>
                <a:lnTo>
                  <a:pt x="2831" y="2031"/>
                </a:lnTo>
                <a:lnTo>
                  <a:pt x="2836" y="2004"/>
                </a:lnTo>
                <a:lnTo>
                  <a:pt x="2849" y="2019"/>
                </a:lnTo>
                <a:lnTo>
                  <a:pt x="2838" y="2041"/>
                </a:lnTo>
                <a:lnTo>
                  <a:pt x="2836" y="2059"/>
                </a:lnTo>
                <a:lnTo>
                  <a:pt x="2847" y="2068"/>
                </a:lnTo>
                <a:lnTo>
                  <a:pt x="2869" y="2092"/>
                </a:lnTo>
                <a:lnTo>
                  <a:pt x="2887" y="2097"/>
                </a:lnTo>
                <a:lnTo>
                  <a:pt x="2896" y="2128"/>
                </a:lnTo>
                <a:lnTo>
                  <a:pt x="2907" y="2134"/>
                </a:lnTo>
                <a:lnTo>
                  <a:pt x="2923" y="2167"/>
                </a:lnTo>
                <a:lnTo>
                  <a:pt x="2946" y="2179"/>
                </a:lnTo>
                <a:lnTo>
                  <a:pt x="2967" y="2188"/>
                </a:lnTo>
                <a:lnTo>
                  <a:pt x="2981" y="2214"/>
                </a:lnTo>
                <a:lnTo>
                  <a:pt x="3012" y="2208"/>
                </a:lnTo>
                <a:lnTo>
                  <a:pt x="3053" y="2199"/>
                </a:lnTo>
                <a:lnTo>
                  <a:pt x="3064" y="2149"/>
                </a:lnTo>
                <a:lnTo>
                  <a:pt x="3058" y="2116"/>
                </a:lnTo>
                <a:lnTo>
                  <a:pt x="3058" y="2060"/>
                </a:lnTo>
                <a:lnTo>
                  <a:pt x="3047" y="2044"/>
                </a:lnTo>
                <a:lnTo>
                  <a:pt x="3026" y="2016"/>
                </a:lnTo>
                <a:lnTo>
                  <a:pt x="3008" y="1986"/>
                </a:lnTo>
                <a:lnTo>
                  <a:pt x="2991" y="1947"/>
                </a:lnTo>
                <a:lnTo>
                  <a:pt x="2975" y="1903"/>
                </a:lnTo>
                <a:lnTo>
                  <a:pt x="2950" y="1862"/>
                </a:lnTo>
                <a:lnTo>
                  <a:pt x="2930" y="1833"/>
                </a:lnTo>
                <a:lnTo>
                  <a:pt x="2905" y="1792"/>
                </a:lnTo>
                <a:lnTo>
                  <a:pt x="2887" y="1757"/>
                </a:lnTo>
                <a:lnTo>
                  <a:pt x="2880" y="1727"/>
                </a:lnTo>
                <a:lnTo>
                  <a:pt x="2878" y="1704"/>
                </a:lnTo>
                <a:lnTo>
                  <a:pt x="2881" y="1684"/>
                </a:lnTo>
                <a:lnTo>
                  <a:pt x="2885" y="1676"/>
                </a:lnTo>
                <a:lnTo>
                  <a:pt x="2887" y="1628"/>
                </a:lnTo>
                <a:lnTo>
                  <a:pt x="2910" y="1584"/>
                </a:lnTo>
                <a:lnTo>
                  <a:pt x="2905" y="1556"/>
                </a:lnTo>
                <a:lnTo>
                  <a:pt x="2941" y="1546"/>
                </a:lnTo>
                <a:lnTo>
                  <a:pt x="2986" y="1497"/>
                </a:lnTo>
                <a:lnTo>
                  <a:pt x="3010" y="1418"/>
                </a:lnTo>
                <a:lnTo>
                  <a:pt x="3068" y="1390"/>
                </a:lnTo>
                <a:lnTo>
                  <a:pt x="3102" y="1316"/>
                </a:lnTo>
                <a:lnTo>
                  <a:pt x="3159" y="1294"/>
                </a:lnTo>
                <a:lnTo>
                  <a:pt x="3187" y="1238"/>
                </a:lnTo>
                <a:lnTo>
                  <a:pt x="3187" y="1198"/>
                </a:lnTo>
                <a:lnTo>
                  <a:pt x="3188" y="1164"/>
                </a:lnTo>
                <a:lnTo>
                  <a:pt x="3174" y="1165"/>
                </a:lnTo>
                <a:lnTo>
                  <a:pt x="3174" y="1223"/>
                </a:lnTo>
                <a:lnTo>
                  <a:pt x="3140" y="1265"/>
                </a:lnTo>
                <a:lnTo>
                  <a:pt x="3092" y="1276"/>
                </a:lnTo>
                <a:lnTo>
                  <a:pt x="3138" y="1251"/>
                </a:lnTo>
                <a:lnTo>
                  <a:pt x="3111" y="1238"/>
                </a:lnTo>
                <a:lnTo>
                  <a:pt x="3138" y="1232"/>
                </a:lnTo>
                <a:lnTo>
                  <a:pt x="3154" y="1233"/>
                </a:lnTo>
                <a:lnTo>
                  <a:pt x="3162" y="1200"/>
                </a:lnTo>
                <a:lnTo>
                  <a:pt x="3159" y="1169"/>
                </a:lnTo>
                <a:lnTo>
                  <a:pt x="3135" y="1169"/>
                </a:lnTo>
                <a:lnTo>
                  <a:pt x="3098" y="1185"/>
                </a:lnTo>
                <a:lnTo>
                  <a:pt x="3100" y="1155"/>
                </a:lnTo>
                <a:lnTo>
                  <a:pt x="3119" y="1167"/>
                </a:lnTo>
                <a:lnTo>
                  <a:pt x="3151" y="1151"/>
                </a:lnTo>
                <a:lnTo>
                  <a:pt x="3156" y="1136"/>
                </a:lnTo>
                <a:lnTo>
                  <a:pt x="3133" y="1127"/>
                </a:lnTo>
                <a:lnTo>
                  <a:pt x="3136" y="1092"/>
                </a:lnTo>
                <a:lnTo>
                  <a:pt x="3111" y="1078"/>
                </a:lnTo>
                <a:lnTo>
                  <a:pt x="3103" y="1090"/>
                </a:lnTo>
                <a:lnTo>
                  <a:pt x="3095" y="1065"/>
                </a:lnTo>
                <a:lnTo>
                  <a:pt x="3098" y="1039"/>
                </a:lnTo>
                <a:lnTo>
                  <a:pt x="3102" y="1011"/>
                </a:lnTo>
                <a:lnTo>
                  <a:pt x="3058" y="991"/>
                </a:lnTo>
                <a:lnTo>
                  <a:pt x="3070" y="985"/>
                </a:lnTo>
                <a:lnTo>
                  <a:pt x="3060" y="925"/>
                </a:lnTo>
                <a:lnTo>
                  <a:pt x="3058" y="891"/>
                </a:lnTo>
                <a:lnTo>
                  <a:pt x="3066" y="881"/>
                </a:lnTo>
                <a:lnTo>
                  <a:pt x="3068" y="931"/>
                </a:lnTo>
                <a:lnTo>
                  <a:pt x="3084" y="964"/>
                </a:lnTo>
                <a:lnTo>
                  <a:pt x="3109" y="996"/>
                </a:lnTo>
                <a:lnTo>
                  <a:pt x="3109" y="1057"/>
                </a:lnTo>
                <a:lnTo>
                  <a:pt x="3136" y="1062"/>
                </a:lnTo>
                <a:lnTo>
                  <a:pt x="3159" y="1000"/>
                </a:lnTo>
                <a:lnTo>
                  <a:pt x="3158" y="913"/>
                </a:lnTo>
                <a:lnTo>
                  <a:pt x="3129" y="888"/>
                </a:lnTo>
                <a:lnTo>
                  <a:pt x="3131" y="869"/>
                </a:lnTo>
                <a:lnTo>
                  <a:pt x="3165" y="889"/>
                </a:lnTo>
                <a:lnTo>
                  <a:pt x="3183" y="844"/>
                </a:lnTo>
                <a:lnTo>
                  <a:pt x="3185" y="806"/>
                </a:lnTo>
                <a:lnTo>
                  <a:pt x="3185" y="740"/>
                </a:lnTo>
                <a:lnTo>
                  <a:pt x="3169" y="720"/>
                </a:lnTo>
                <a:lnTo>
                  <a:pt x="3176" y="704"/>
                </a:lnTo>
                <a:lnTo>
                  <a:pt x="3189" y="722"/>
                </a:lnTo>
                <a:lnTo>
                  <a:pt x="3260" y="681"/>
                </a:lnTo>
                <a:lnTo>
                  <a:pt x="3310" y="636"/>
                </a:lnTo>
                <a:lnTo>
                  <a:pt x="3272" y="632"/>
                </a:lnTo>
                <a:lnTo>
                  <a:pt x="3219" y="667"/>
                </a:lnTo>
                <a:lnTo>
                  <a:pt x="3185" y="683"/>
                </a:lnTo>
                <a:lnTo>
                  <a:pt x="3209" y="648"/>
                </a:lnTo>
                <a:lnTo>
                  <a:pt x="3233" y="632"/>
                </a:lnTo>
                <a:lnTo>
                  <a:pt x="3247" y="638"/>
                </a:lnTo>
                <a:lnTo>
                  <a:pt x="3286" y="615"/>
                </a:lnTo>
                <a:lnTo>
                  <a:pt x="3294" y="594"/>
                </a:lnTo>
                <a:lnTo>
                  <a:pt x="3305" y="594"/>
                </a:lnTo>
                <a:lnTo>
                  <a:pt x="3319" y="583"/>
                </a:lnTo>
                <a:lnTo>
                  <a:pt x="3337" y="561"/>
                </a:lnTo>
                <a:lnTo>
                  <a:pt x="3366" y="574"/>
                </a:lnTo>
                <a:lnTo>
                  <a:pt x="3380" y="558"/>
                </a:lnTo>
                <a:lnTo>
                  <a:pt x="3393" y="537"/>
                </a:lnTo>
                <a:lnTo>
                  <a:pt x="3380" y="510"/>
                </a:lnTo>
                <a:lnTo>
                  <a:pt x="3362" y="493"/>
                </a:lnTo>
                <a:lnTo>
                  <a:pt x="3352" y="492"/>
                </a:lnTo>
                <a:lnTo>
                  <a:pt x="3338" y="499"/>
                </a:lnTo>
                <a:lnTo>
                  <a:pt x="3352" y="522"/>
                </a:lnTo>
                <a:lnTo>
                  <a:pt x="3358" y="536"/>
                </a:lnTo>
                <a:lnTo>
                  <a:pt x="3342" y="535"/>
                </a:lnTo>
                <a:lnTo>
                  <a:pt x="3324" y="508"/>
                </a:lnTo>
                <a:lnTo>
                  <a:pt x="3306" y="513"/>
                </a:lnTo>
                <a:lnTo>
                  <a:pt x="3310" y="493"/>
                </a:lnTo>
                <a:lnTo>
                  <a:pt x="3318" y="472"/>
                </a:lnTo>
                <a:lnTo>
                  <a:pt x="3303" y="469"/>
                </a:lnTo>
                <a:lnTo>
                  <a:pt x="3316" y="428"/>
                </a:lnTo>
                <a:lnTo>
                  <a:pt x="3312" y="403"/>
                </a:lnTo>
                <a:lnTo>
                  <a:pt x="3329" y="385"/>
                </a:lnTo>
                <a:lnTo>
                  <a:pt x="3319" y="359"/>
                </a:lnTo>
                <a:lnTo>
                  <a:pt x="3337" y="347"/>
                </a:lnTo>
                <a:lnTo>
                  <a:pt x="3356" y="331"/>
                </a:lnTo>
                <a:lnTo>
                  <a:pt x="3373" y="325"/>
                </a:lnTo>
                <a:lnTo>
                  <a:pt x="3380" y="284"/>
                </a:lnTo>
                <a:lnTo>
                  <a:pt x="3399" y="284"/>
                </a:lnTo>
                <a:lnTo>
                  <a:pt x="3427" y="263"/>
                </a:lnTo>
                <a:lnTo>
                  <a:pt x="3440" y="242"/>
                </a:lnTo>
                <a:lnTo>
                  <a:pt x="3462" y="222"/>
                </a:lnTo>
                <a:lnTo>
                  <a:pt x="3459" y="195"/>
                </a:lnTo>
                <a:lnTo>
                  <a:pt x="3428" y="181"/>
                </a:lnTo>
                <a:lnTo>
                  <a:pt x="3411" y="154"/>
                </a:lnTo>
                <a:lnTo>
                  <a:pt x="3378" y="154"/>
                </a:lnTo>
                <a:lnTo>
                  <a:pt x="3364" y="121"/>
                </a:lnTo>
                <a:lnTo>
                  <a:pt x="3359" y="87"/>
                </a:lnTo>
                <a:lnTo>
                  <a:pt x="3350" y="54"/>
                </a:lnTo>
                <a:lnTo>
                  <a:pt x="3337" y="13"/>
                </a:lnTo>
              </a:path>
            </a:pathLst>
          </a:custGeom>
          <a:solidFill>
            <a:srgbClr val="006666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41760" y="1743120"/>
            <a:ext cx="12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rkel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11440" y="2438280"/>
            <a:ext cx="187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rginia Te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31680" y="2460600"/>
            <a:ext cx="1302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rther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izo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19320" y="1776240"/>
            <a:ext cx="1016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MB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33520" y="3733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4000"/>
          </a:bodyPr>
          <a:p>
            <a:pPr marL="150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rototype Goals (1998-2001)</a:t>
            </a: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  <a:p>
            <a:pPr marL="15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Develop a Prototype National SMETE Digital Library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marL="150840" indent="-150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interoperability of federated searches/shared services with partner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marL="150840" indent="-150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requirements analysis to include K–12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marL="150840" indent="-150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criteria and standards to assess the impact of learning objects across disciplin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marL="150840" indent="-150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community feedback systems, evaluate servic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1" marL="326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17000" y="1506600"/>
            <a:ext cx="172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h For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533160" y="228600"/>
            <a:ext cx="601956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otype: www.smete.or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78720" y="1828800"/>
            <a:ext cx="7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60240" y="2286000"/>
            <a:ext cx="127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nfo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18240" y="2039760"/>
            <a:ext cx="9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C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38400" y="1219320"/>
            <a:ext cx="159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hn Wil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uilding a National SMETE Digital Library at www.smete.or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earching for learning resourc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ataloging (adding) learning resourc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ndards, IEEE and I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Evaluating the quality of learning resourc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r” revie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ert” revie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Forming a community of users in SMET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KAL workshops and semin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earch on ad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ystems Developme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Expanding www.smete.org/NEEDS platform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653760" indent="-2512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ing to participate in the development of IEEE/IMS Learning Object Metadata Standa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opting emerging IEEE standa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ing user com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ing discussion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ing customiz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r pro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Expanding Collection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653760" indent="-2512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ing into Chemistry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sics, and Mathema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87600" y="4168800"/>
            <a:ext cx="2894760" cy="228852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Total Collection</a:t>
            </a:r>
            <a:r>
              <a:rPr b="0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inee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st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What is an NSDL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NEEDS—The National Engineering Education Delivery System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owards a National SMETE Digital Library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Prototype: www.smete.org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50680" y="5791320"/>
            <a:ext cx="725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Copies of this presentation will be available a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http://www.needs.org/engineering/info/presentations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llaborating with Partne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Working with Eisenhower National Clearinghouse and Math Forum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y common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hange records for common search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ing together as part of the American Mathematics Metadata Task Fo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209680" y="4191120"/>
            <a:ext cx="1675080" cy="1682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181480" y="5467320"/>
            <a:ext cx="2286000" cy="5716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181480" y="4191120"/>
            <a:ext cx="2286000" cy="13334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347080" y="6076800"/>
            <a:ext cx="20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ww.enc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43600" y="6095880"/>
            <a:ext cx="332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ww.mathforum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llaborating with Partne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Working with University of California Office of the President - (10 campuses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ying courseware under development systemw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ing TLT@UC Website to showcase teaching and learning with technology at the University of Califor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447920" y="4724280"/>
            <a:ext cx="6887880" cy="11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hallenges Toward the Future..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tinuing to understand and support changing user nee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Improving ability to encapsulate the instructional intent and use of materials</a:t>
            </a: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adata standards and cataloging pract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Supporting communities of use and practice</a:t>
            </a: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dag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hallenges Toward the Future..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tinuing to understand and support changing user nee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Improving ability to encapsulate the instructional intent and use of materials</a:t>
            </a: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  <a:p>
            <a:pPr lvl="1" marL="676080" indent="-2599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adata standards and cataloging pract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Supporting communities of use and practice</a:t>
            </a: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  <a:p>
            <a:pPr lvl="1" marL="676080" indent="-2599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dag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Which allows for a user to find what they’re really looking for as well as personalization of content.</a:t>
            </a: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  <a:p>
            <a:pPr lvl="1" marL="676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048120" y="533520"/>
            <a:ext cx="5497560" cy="3673440"/>
          </a:xfrm>
          <a:custGeom>
            <a:avLst/>
            <a:gdLst/>
            <a:ahLst/>
            <a:rect l="l" t="t" r="r" b="b"/>
            <a:pathLst>
              <a:path w="3463" h="2314">
                <a:moveTo>
                  <a:pt x="3337" y="13"/>
                </a:moveTo>
                <a:lnTo>
                  <a:pt x="3318" y="0"/>
                </a:lnTo>
                <a:lnTo>
                  <a:pt x="3299" y="0"/>
                </a:lnTo>
                <a:lnTo>
                  <a:pt x="3287" y="2"/>
                </a:lnTo>
                <a:lnTo>
                  <a:pt x="3278" y="18"/>
                </a:lnTo>
                <a:lnTo>
                  <a:pt x="3263" y="13"/>
                </a:lnTo>
                <a:lnTo>
                  <a:pt x="3252" y="18"/>
                </a:lnTo>
                <a:lnTo>
                  <a:pt x="3244" y="41"/>
                </a:lnTo>
                <a:lnTo>
                  <a:pt x="3219" y="93"/>
                </a:lnTo>
                <a:lnTo>
                  <a:pt x="3231" y="125"/>
                </a:lnTo>
                <a:lnTo>
                  <a:pt x="3222" y="163"/>
                </a:lnTo>
                <a:lnTo>
                  <a:pt x="3230" y="179"/>
                </a:lnTo>
                <a:lnTo>
                  <a:pt x="3229" y="210"/>
                </a:lnTo>
                <a:lnTo>
                  <a:pt x="3225" y="238"/>
                </a:lnTo>
                <a:lnTo>
                  <a:pt x="3209" y="242"/>
                </a:lnTo>
                <a:lnTo>
                  <a:pt x="3198" y="226"/>
                </a:lnTo>
                <a:lnTo>
                  <a:pt x="3174" y="287"/>
                </a:lnTo>
                <a:lnTo>
                  <a:pt x="3129" y="300"/>
                </a:lnTo>
                <a:lnTo>
                  <a:pt x="3069" y="320"/>
                </a:lnTo>
                <a:lnTo>
                  <a:pt x="3026" y="331"/>
                </a:lnTo>
                <a:lnTo>
                  <a:pt x="2992" y="364"/>
                </a:lnTo>
                <a:lnTo>
                  <a:pt x="2970" y="399"/>
                </a:lnTo>
                <a:lnTo>
                  <a:pt x="2950" y="400"/>
                </a:lnTo>
                <a:lnTo>
                  <a:pt x="2928" y="438"/>
                </a:lnTo>
                <a:lnTo>
                  <a:pt x="2938" y="452"/>
                </a:lnTo>
                <a:lnTo>
                  <a:pt x="2943" y="483"/>
                </a:lnTo>
                <a:lnTo>
                  <a:pt x="2932" y="493"/>
                </a:lnTo>
                <a:lnTo>
                  <a:pt x="2917" y="516"/>
                </a:lnTo>
                <a:lnTo>
                  <a:pt x="2901" y="522"/>
                </a:lnTo>
                <a:lnTo>
                  <a:pt x="2895" y="537"/>
                </a:lnTo>
                <a:lnTo>
                  <a:pt x="2866" y="542"/>
                </a:lnTo>
                <a:lnTo>
                  <a:pt x="2826" y="543"/>
                </a:lnTo>
                <a:lnTo>
                  <a:pt x="2794" y="564"/>
                </a:lnTo>
                <a:lnTo>
                  <a:pt x="2798" y="599"/>
                </a:lnTo>
                <a:lnTo>
                  <a:pt x="2789" y="627"/>
                </a:lnTo>
                <a:lnTo>
                  <a:pt x="2763" y="665"/>
                </a:lnTo>
                <a:lnTo>
                  <a:pt x="2730" y="701"/>
                </a:lnTo>
                <a:lnTo>
                  <a:pt x="2696" y="714"/>
                </a:lnTo>
                <a:lnTo>
                  <a:pt x="2686" y="740"/>
                </a:lnTo>
                <a:lnTo>
                  <a:pt x="2619" y="770"/>
                </a:lnTo>
                <a:lnTo>
                  <a:pt x="2582" y="761"/>
                </a:lnTo>
                <a:lnTo>
                  <a:pt x="2575" y="752"/>
                </a:lnTo>
                <a:lnTo>
                  <a:pt x="2592" y="734"/>
                </a:lnTo>
                <a:lnTo>
                  <a:pt x="2594" y="710"/>
                </a:lnTo>
                <a:lnTo>
                  <a:pt x="2581" y="689"/>
                </a:lnTo>
                <a:lnTo>
                  <a:pt x="2594" y="680"/>
                </a:lnTo>
                <a:lnTo>
                  <a:pt x="2614" y="683"/>
                </a:lnTo>
                <a:lnTo>
                  <a:pt x="2611" y="638"/>
                </a:lnTo>
                <a:lnTo>
                  <a:pt x="2607" y="601"/>
                </a:lnTo>
                <a:lnTo>
                  <a:pt x="2596" y="567"/>
                </a:lnTo>
                <a:lnTo>
                  <a:pt x="2578" y="552"/>
                </a:lnTo>
                <a:lnTo>
                  <a:pt x="2554" y="543"/>
                </a:lnTo>
                <a:lnTo>
                  <a:pt x="2534" y="558"/>
                </a:lnTo>
                <a:lnTo>
                  <a:pt x="2515" y="586"/>
                </a:lnTo>
                <a:lnTo>
                  <a:pt x="2496" y="579"/>
                </a:lnTo>
                <a:lnTo>
                  <a:pt x="2504" y="566"/>
                </a:lnTo>
                <a:lnTo>
                  <a:pt x="2513" y="558"/>
                </a:lnTo>
                <a:lnTo>
                  <a:pt x="2525" y="549"/>
                </a:lnTo>
                <a:lnTo>
                  <a:pt x="2543" y="525"/>
                </a:lnTo>
                <a:lnTo>
                  <a:pt x="2529" y="477"/>
                </a:lnTo>
                <a:lnTo>
                  <a:pt x="2525" y="440"/>
                </a:lnTo>
                <a:lnTo>
                  <a:pt x="2496" y="433"/>
                </a:lnTo>
                <a:lnTo>
                  <a:pt x="2444" y="399"/>
                </a:lnTo>
                <a:lnTo>
                  <a:pt x="2414" y="414"/>
                </a:lnTo>
                <a:lnTo>
                  <a:pt x="2408" y="431"/>
                </a:lnTo>
                <a:lnTo>
                  <a:pt x="2415" y="445"/>
                </a:lnTo>
                <a:lnTo>
                  <a:pt x="2399" y="452"/>
                </a:lnTo>
                <a:lnTo>
                  <a:pt x="2399" y="480"/>
                </a:lnTo>
                <a:lnTo>
                  <a:pt x="2385" y="480"/>
                </a:lnTo>
                <a:lnTo>
                  <a:pt x="2363" y="502"/>
                </a:lnTo>
                <a:lnTo>
                  <a:pt x="2355" y="519"/>
                </a:lnTo>
                <a:lnTo>
                  <a:pt x="2347" y="537"/>
                </a:lnTo>
                <a:lnTo>
                  <a:pt x="2346" y="581"/>
                </a:lnTo>
                <a:lnTo>
                  <a:pt x="2342" y="630"/>
                </a:lnTo>
                <a:lnTo>
                  <a:pt x="2353" y="658"/>
                </a:lnTo>
                <a:lnTo>
                  <a:pt x="2368" y="704"/>
                </a:lnTo>
                <a:lnTo>
                  <a:pt x="2368" y="758"/>
                </a:lnTo>
                <a:lnTo>
                  <a:pt x="2355" y="821"/>
                </a:lnTo>
                <a:lnTo>
                  <a:pt x="2329" y="826"/>
                </a:lnTo>
                <a:lnTo>
                  <a:pt x="2313" y="814"/>
                </a:lnTo>
                <a:lnTo>
                  <a:pt x="2299" y="791"/>
                </a:lnTo>
                <a:lnTo>
                  <a:pt x="2285" y="758"/>
                </a:lnTo>
                <a:lnTo>
                  <a:pt x="2287" y="716"/>
                </a:lnTo>
                <a:lnTo>
                  <a:pt x="2287" y="686"/>
                </a:lnTo>
                <a:lnTo>
                  <a:pt x="2274" y="660"/>
                </a:lnTo>
                <a:lnTo>
                  <a:pt x="2276" y="604"/>
                </a:lnTo>
                <a:lnTo>
                  <a:pt x="2283" y="560"/>
                </a:lnTo>
                <a:lnTo>
                  <a:pt x="2286" y="537"/>
                </a:lnTo>
                <a:lnTo>
                  <a:pt x="2310" y="499"/>
                </a:lnTo>
                <a:lnTo>
                  <a:pt x="2297" y="483"/>
                </a:lnTo>
                <a:lnTo>
                  <a:pt x="2285" y="490"/>
                </a:lnTo>
                <a:lnTo>
                  <a:pt x="2276" y="512"/>
                </a:lnTo>
                <a:lnTo>
                  <a:pt x="2247" y="545"/>
                </a:lnTo>
                <a:lnTo>
                  <a:pt x="2263" y="517"/>
                </a:lnTo>
                <a:lnTo>
                  <a:pt x="2265" y="498"/>
                </a:lnTo>
                <a:lnTo>
                  <a:pt x="2259" y="474"/>
                </a:lnTo>
                <a:lnTo>
                  <a:pt x="2263" y="453"/>
                </a:lnTo>
                <a:lnTo>
                  <a:pt x="2276" y="433"/>
                </a:lnTo>
                <a:lnTo>
                  <a:pt x="2278" y="405"/>
                </a:lnTo>
                <a:lnTo>
                  <a:pt x="2285" y="389"/>
                </a:lnTo>
                <a:lnTo>
                  <a:pt x="2289" y="415"/>
                </a:lnTo>
                <a:lnTo>
                  <a:pt x="2315" y="417"/>
                </a:lnTo>
                <a:lnTo>
                  <a:pt x="2329" y="400"/>
                </a:lnTo>
                <a:lnTo>
                  <a:pt x="2355" y="388"/>
                </a:lnTo>
                <a:lnTo>
                  <a:pt x="2382" y="385"/>
                </a:lnTo>
                <a:lnTo>
                  <a:pt x="2393" y="396"/>
                </a:lnTo>
                <a:lnTo>
                  <a:pt x="2414" y="391"/>
                </a:lnTo>
                <a:lnTo>
                  <a:pt x="2445" y="384"/>
                </a:lnTo>
                <a:lnTo>
                  <a:pt x="2462" y="382"/>
                </a:lnTo>
                <a:lnTo>
                  <a:pt x="2465" y="367"/>
                </a:lnTo>
                <a:lnTo>
                  <a:pt x="2467" y="367"/>
                </a:lnTo>
                <a:lnTo>
                  <a:pt x="2454" y="349"/>
                </a:lnTo>
                <a:lnTo>
                  <a:pt x="2435" y="341"/>
                </a:lnTo>
                <a:lnTo>
                  <a:pt x="2405" y="330"/>
                </a:lnTo>
                <a:lnTo>
                  <a:pt x="2379" y="330"/>
                </a:lnTo>
                <a:lnTo>
                  <a:pt x="2363" y="327"/>
                </a:lnTo>
                <a:lnTo>
                  <a:pt x="2355" y="315"/>
                </a:lnTo>
                <a:lnTo>
                  <a:pt x="2324" y="310"/>
                </a:lnTo>
                <a:lnTo>
                  <a:pt x="2297" y="316"/>
                </a:lnTo>
                <a:lnTo>
                  <a:pt x="2276" y="320"/>
                </a:lnTo>
                <a:lnTo>
                  <a:pt x="2257" y="341"/>
                </a:lnTo>
                <a:lnTo>
                  <a:pt x="2229" y="327"/>
                </a:lnTo>
                <a:lnTo>
                  <a:pt x="2207" y="316"/>
                </a:lnTo>
                <a:lnTo>
                  <a:pt x="2180" y="330"/>
                </a:lnTo>
                <a:lnTo>
                  <a:pt x="2162" y="322"/>
                </a:lnTo>
                <a:lnTo>
                  <a:pt x="2182" y="291"/>
                </a:lnTo>
                <a:lnTo>
                  <a:pt x="2176" y="280"/>
                </a:lnTo>
                <a:lnTo>
                  <a:pt x="2166" y="284"/>
                </a:lnTo>
                <a:lnTo>
                  <a:pt x="2139" y="320"/>
                </a:lnTo>
                <a:lnTo>
                  <a:pt x="2118" y="347"/>
                </a:lnTo>
                <a:lnTo>
                  <a:pt x="2098" y="378"/>
                </a:lnTo>
                <a:lnTo>
                  <a:pt x="2068" y="374"/>
                </a:lnTo>
                <a:lnTo>
                  <a:pt x="2057" y="340"/>
                </a:lnTo>
                <a:lnTo>
                  <a:pt x="2046" y="341"/>
                </a:lnTo>
                <a:lnTo>
                  <a:pt x="2036" y="367"/>
                </a:lnTo>
                <a:lnTo>
                  <a:pt x="2001" y="368"/>
                </a:lnTo>
                <a:lnTo>
                  <a:pt x="2038" y="316"/>
                </a:lnTo>
                <a:lnTo>
                  <a:pt x="2126" y="257"/>
                </a:lnTo>
                <a:lnTo>
                  <a:pt x="2131" y="242"/>
                </a:lnTo>
                <a:lnTo>
                  <a:pt x="2083" y="244"/>
                </a:lnTo>
                <a:lnTo>
                  <a:pt x="2033" y="225"/>
                </a:lnTo>
                <a:lnTo>
                  <a:pt x="2015" y="251"/>
                </a:lnTo>
                <a:lnTo>
                  <a:pt x="1977" y="236"/>
                </a:lnTo>
                <a:lnTo>
                  <a:pt x="1951" y="246"/>
                </a:lnTo>
                <a:lnTo>
                  <a:pt x="1935" y="216"/>
                </a:lnTo>
                <a:lnTo>
                  <a:pt x="1892" y="218"/>
                </a:lnTo>
                <a:lnTo>
                  <a:pt x="1879" y="232"/>
                </a:lnTo>
                <a:lnTo>
                  <a:pt x="1831" y="198"/>
                </a:lnTo>
                <a:lnTo>
                  <a:pt x="1824" y="166"/>
                </a:lnTo>
                <a:lnTo>
                  <a:pt x="1770" y="154"/>
                </a:lnTo>
                <a:lnTo>
                  <a:pt x="1794" y="198"/>
                </a:lnTo>
                <a:lnTo>
                  <a:pt x="978" y="169"/>
                </a:lnTo>
                <a:lnTo>
                  <a:pt x="928" y="155"/>
                </a:lnTo>
                <a:lnTo>
                  <a:pt x="841" y="143"/>
                </a:lnTo>
                <a:lnTo>
                  <a:pt x="731" y="125"/>
                </a:lnTo>
                <a:lnTo>
                  <a:pt x="593" y="111"/>
                </a:lnTo>
                <a:lnTo>
                  <a:pt x="541" y="100"/>
                </a:lnTo>
                <a:lnTo>
                  <a:pt x="466" y="87"/>
                </a:lnTo>
                <a:lnTo>
                  <a:pt x="412" y="74"/>
                </a:lnTo>
                <a:lnTo>
                  <a:pt x="269" y="27"/>
                </a:lnTo>
                <a:lnTo>
                  <a:pt x="260" y="32"/>
                </a:lnTo>
                <a:lnTo>
                  <a:pt x="263" y="53"/>
                </a:lnTo>
                <a:lnTo>
                  <a:pt x="272" y="77"/>
                </a:lnTo>
                <a:lnTo>
                  <a:pt x="264" y="89"/>
                </a:lnTo>
                <a:lnTo>
                  <a:pt x="255" y="98"/>
                </a:lnTo>
                <a:lnTo>
                  <a:pt x="260" y="116"/>
                </a:lnTo>
                <a:lnTo>
                  <a:pt x="282" y="154"/>
                </a:lnTo>
                <a:lnTo>
                  <a:pt x="264" y="179"/>
                </a:lnTo>
                <a:lnTo>
                  <a:pt x="255" y="212"/>
                </a:lnTo>
                <a:lnTo>
                  <a:pt x="232" y="212"/>
                </a:lnTo>
                <a:lnTo>
                  <a:pt x="251" y="197"/>
                </a:lnTo>
                <a:lnTo>
                  <a:pt x="258" y="179"/>
                </a:lnTo>
                <a:lnTo>
                  <a:pt x="253" y="163"/>
                </a:lnTo>
                <a:lnTo>
                  <a:pt x="242" y="158"/>
                </a:lnTo>
                <a:lnTo>
                  <a:pt x="246" y="146"/>
                </a:lnTo>
                <a:lnTo>
                  <a:pt x="263" y="151"/>
                </a:lnTo>
                <a:lnTo>
                  <a:pt x="263" y="141"/>
                </a:lnTo>
                <a:lnTo>
                  <a:pt x="253" y="113"/>
                </a:lnTo>
                <a:lnTo>
                  <a:pt x="240" y="111"/>
                </a:lnTo>
                <a:lnTo>
                  <a:pt x="213" y="107"/>
                </a:lnTo>
                <a:lnTo>
                  <a:pt x="193" y="85"/>
                </a:lnTo>
                <a:lnTo>
                  <a:pt x="179" y="74"/>
                </a:lnTo>
                <a:lnTo>
                  <a:pt x="163" y="67"/>
                </a:lnTo>
                <a:lnTo>
                  <a:pt x="152" y="87"/>
                </a:lnTo>
                <a:lnTo>
                  <a:pt x="159" y="118"/>
                </a:lnTo>
                <a:lnTo>
                  <a:pt x="163" y="144"/>
                </a:lnTo>
                <a:lnTo>
                  <a:pt x="160" y="177"/>
                </a:lnTo>
                <a:lnTo>
                  <a:pt x="159" y="205"/>
                </a:lnTo>
                <a:lnTo>
                  <a:pt x="163" y="216"/>
                </a:lnTo>
                <a:lnTo>
                  <a:pt x="173" y="238"/>
                </a:lnTo>
                <a:lnTo>
                  <a:pt x="163" y="253"/>
                </a:lnTo>
                <a:lnTo>
                  <a:pt x="163" y="266"/>
                </a:lnTo>
                <a:lnTo>
                  <a:pt x="165" y="289"/>
                </a:lnTo>
                <a:lnTo>
                  <a:pt x="150" y="297"/>
                </a:lnTo>
                <a:lnTo>
                  <a:pt x="139" y="348"/>
                </a:lnTo>
                <a:lnTo>
                  <a:pt x="128" y="394"/>
                </a:lnTo>
                <a:lnTo>
                  <a:pt x="112" y="441"/>
                </a:lnTo>
                <a:lnTo>
                  <a:pt x="91" y="477"/>
                </a:lnTo>
                <a:lnTo>
                  <a:pt x="72" y="525"/>
                </a:lnTo>
                <a:lnTo>
                  <a:pt x="52" y="555"/>
                </a:lnTo>
                <a:lnTo>
                  <a:pt x="52" y="626"/>
                </a:lnTo>
                <a:lnTo>
                  <a:pt x="52" y="689"/>
                </a:lnTo>
                <a:lnTo>
                  <a:pt x="45" y="714"/>
                </a:lnTo>
                <a:lnTo>
                  <a:pt x="25" y="754"/>
                </a:lnTo>
                <a:lnTo>
                  <a:pt x="0" y="797"/>
                </a:lnTo>
                <a:lnTo>
                  <a:pt x="25" y="853"/>
                </a:lnTo>
                <a:lnTo>
                  <a:pt x="18" y="900"/>
                </a:lnTo>
                <a:lnTo>
                  <a:pt x="11" y="932"/>
                </a:lnTo>
                <a:lnTo>
                  <a:pt x="32" y="988"/>
                </a:lnTo>
                <a:lnTo>
                  <a:pt x="47" y="1024"/>
                </a:lnTo>
                <a:lnTo>
                  <a:pt x="69" y="1040"/>
                </a:lnTo>
                <a:lnTo>
                  <a:pt x="90" y="1014"/>
                </a:lnTo>
                <a:lnTo>
                  <a:pt x="96" y="1031"/>
                </a:lnTo>
                <a:lnTo>
                  <a:pt x="103" y="1044"/>
                </a:lnTo>
                <a:lnTo>
                  <a:pt x="81" y="1047"/>
                </a:lnTo>
                <a:lnTo>
                  <a:pt x="83" y="1064"/>
                </a:lnTo>
                <a:lnTo>
                  <a:pt x="63" y="1054"/>
                </a:lnTo>
                <a:lnTo>
                  <a:pt x="66" y="1089"/>
                </a:lnTo>
                <a:lnTo>
                  <a:pt x="75" y="1119"/>
                </a:lnTo>
                <a:lnTo>
                  <a:pt x="78" y="1143"/>
                </a:lnTo>
                <a:lnTo>
                  <a:pt x="105" y="1137"/>
                </a:lnTo>
                <a:lnTo>
                  <a:pt x="101" y="1148"/>
                </a:lnTo>
                <a:lnTo>
                  <a:pt x="78" y="1165"/>
                </a:lnTo>
                <a:lnTo>
                  <a:pt x="78" y="1202"/>
                </a:lnTo>
                <a:lnTo>
                  <a:pt x="109" y="1238"/>
                </a:lnTo>
                <a:lnTo>
                  <a:pt x="121" y="1251"/>
                </a:lnTo>
                <a:lnTo>
                  <a:pt x="113" y="1265"/>
                </a:lnTo>
                <a:lnTo>
                  <a:pt x="123" y="1287"/>
                </a:lnTo>
                <a:lnTo>
                  <a:pt x="128" y="1313"/>
                </a:lnTo>
                <a:lnTo>
                  <a:pt x="136" y="1329"/>
                </a:lnTo>
                <a:lnTo>
                  <a:pt x="141" y="1349"/>
                </a:lnTo>
                <a:lnTo>
                  <a:pt x="142" y="1369"/>
                </a:lnTo>
                <a:lnTo>
                  <a:pt x="136" y="1382"/>
                </a:lnTo>
                <a:lnTo>
                  <a:pt x="157" y="1388"/>
                </a:lnTo>
                <a:lnTo>
                  <a:pt x="176" y="1390"/>
                </a:lnTo>
                <a:lnTo>
                  <a:pt x="193" y="1385"/>
                </a:lnTo>
                <a:lnTo>
                  <a:pt x="213" y="1388"/>
                </a:lnTo>
                <a:lnTo>
                  <a:pt x="219" y="1407"/>
                </a:lnTo>
                <a:lnTo>
                  <a:pt x="223" y="1422"/>
                </a:lnTo>
                <a:lnTo>
                  <a:pt x="244" y="1447"/>
                </a:lnTo>
                <a:lnTo>
                  <a:pt x="253" y="1457"/>
                </a:lnTo>
                <a:lnTo>
                  <a:pt x="263" y="1477"/>
                </a:lnTo>
                <a:lnTo>
                  <a:pt x="264" y="1489"/>
                </a:lnTo>
                <a:lnTo>
                  <a:pt x="284" y="1502"/>
                </a:lnTo>
                <a:lnTo>
                  <a:pt x="301" y="1519"/>
                </a:lnTo>
                <a:lnTo>
                  <a:pt x="318" y="1548"/>
                </a:lnTo>
                <a:lnTo>
                  <a:pt x="322" y="1585"/>
                </a:lnTo>
                <a:lnTo>
                  <a:pt x="320" y="1605"/>
                </a:lnTo>
                <a:lnTo>
                  <a:pt x="338" y="1609"/>
                </a:lnTo>
                <a:lnTo>
                  <a:pt x="358" y="1603"/>
                </a:lnTo>
                <a:lnTo>
                  <a:pt x="376" y="1602"/>
                </a:lnTo>
                <a:lnTo>
                  <a:pt x="405" y="1603"/>
                </a:lnTo>
                <a:lnTo>
                  <a:pt x="432" y="1605"/>
                </a:lnTo>
                <a:lnTo>
                  <a:pt x="471" y="1605"/>
                </a:lnTo>
                <a:lnTo>
                  <a:pt x="495" y="1609"/>
                </a:lnTo>
                <a:lnTo>
                  <a:pt x="500" y="1625"/>
                </a:lnTo>
                <a:lnTo>
                  <a:pt x="494" y="1641"/>
                </a:lnTo>
                <a:lnTo>
                  <a:pt x="524" y="1663"/>
                </a:lnTo>
                <a:lnTo>
                  <a:pt x="555" y="1680"/>
                </a:lnTo>
                <a:lnTo>
                  <a:pt x="612" y="1713"/>
                </a:lnTo>
                <a:lnTo>
                  <a:pt x="655" y="1739"/>
                </a:lnTo>
                <a:lnTo>
                  <a:pt x="702" y="1758"/>
                </a:lnTo>
                <a:lnTo>
                  <a:pt x="750" y="1777"/>
                </a:lnTo>
                <a:lnTo>
                  <a:pt x="781" y="1779"/>
                </a:lnTo>
                <a:lnTo>
                  <a:pt x="809" y="1776"/>
                </a:lnTo>
                <a:lnTo>
                  <a:pt x="852" y="1781"/>
                </a:lnTo>
                <a:lnTo>
                  <a:pt x="880" y="1786"/>
                </a:lnTo>
                <a:lnTo>
                  <a:pt x="910" y="1783"/>
                </a:lnTo>
                <a:lnTo>
                  <a:pt x="939" y="1791"/>
                </a:lnTo>
                <a:lnTo>
                  <a:pt x="964" y="1789"/>
                </a:lnTo>
                <a:lnTo>
                  <a:pt x="967" y="1752"/>
                </a:lnTo>
                <a:lnTo>
                  <a:pt x="1011" y="1757"/>
                </a:lnTo>
                <a:lnTo>
                  <a:pt x="1063" y="1758"/>
                </a:lnTo>
                <a:lnTo>
                  <a:pt x="1105" y="1812"/>
                </a:lnTo>
                <a:lnTo>
                  <a:pt x="1155" y="1858"/>
                </a:lnTo>
                <a:lnTo>
                  <a:pt x="1184" y="1893"/>
                </a:lnTo>
                <a:lnTo>
                  <a:pt x="1185" y="1923"/>
                </a:lnTo>
                <a:lnTo>
                  <a:pt x="1195" y="1957"/>
                </a:lnTo>
                <a:lnTo>
                  <a:pt x="1214" y="1979"/>
                </a:lnTo>
                <a:lnTo>
                  <a:pt x="1235" y="2001"/>
                </a:lnTo>
                <a:lnTo>
                  <a:pt x="1295" y="2042"/>
                </a:lnTo>
                <a:lnTo>
                  <a:pt x="1316" y="2036"/>
                </a:lnTo>
                <a:lnTo>
                  <a:pt x="1328" y="2024"/>
                </a:lnTo>
                <a:lnTo>
                  <a:pt x="1335" y="1999"/>
                </a:lnTo>
                <a:lnTo>
                  <a:pt x="1341" y="1979"/>
                </a:lnTo>
                <a:lnTo>
                  <a:pt x="1364" y="1978"/>
                </a:lnTo>
                <a:lnTo>
                  <a:pt x="1390" y="1979"/>
                </a:lnTo>
                <a:lnTo>
                  <a:pt x="1424" y="1987"/>
                </a:lnTo>
                <a:lnTo>
                  <a:pt x="1443" y="2003"/>
                </a:lnTo>
                <a:lnTo>
                  <a:pt x="1468" y="2014"/>
                </a:lnTo>
                <a:lnTo>
                  <a:pt x="1475" y="2034"/>
                </a:lnTo>
                <a:lnTo>
                  <a:pt x="1488" y="2066"/>
                </a:lnTo>
                <a:lnTo>
                  <a:pt x="1500" y="2097"/>
                </a:lnTo>
                <a:lnTo>
                  <a:pt x="1514" y="2121"/>
                </a:lnTo>
                <a:lnTo>
                  <a:pt x="1540" y="2137"/>
                </a:lnTo>
                <a:lnTo>
                  <a:pt x="1560" y="2162"/>
                </a:lnTo>
                <a:lnTo>
                  <a:pt x="1569" y="2197"/>
                </a:lnTo>
                <a:lnTo>
                  <a:pt x="1576" y="2224"/>
                </a:lnTo>
                <a:lnTo>
                  <a:pt x="1593" y="2272"/>
                </a:lnTo>
                <a:lnTo>
                  <a:pt x="1616" y="2277"/>
                </a:lnTo>
                <a:lnTo>
                  <a:pt x="1642" y="2289"/>
                </a:lnTo>
                <a:lnTo>
                  <a:pt x="1669" y="2296"/>
                </a:lnTo>
                <a:lnTo>
                  <a:pt x="1703" y="2298"/>
                </a:lnTo>
                <a:lnTo>
                  <a:pt x="1723" y="2313"/>
                </a:lnTo>
                <a:lnTo>
                  <a:pt x="1770" y="2310"/>
                </a:lnTo>
                <a:lnTo>
                  <a:pt x="1772" y="2274"/>
                </a:lnTo>
                <a:lnTo>
                  <a:pt x="1746" y="2247"/>
                </a:lnTo>
                <a:lnTo>
                  <a:pt x="1741" y="2208"/>
                </a:lnTo>
                <a:lnTo>
                  <a:pt x="1760" y="2182"/>
                </a:lnTo>
                <a:lnTo>
                  <a:pt x="1759" y="2153"/>
                </a:lnTo>
                <a:lnTo>
                  <a:pt x="1766" y="2146"/>
                </a:lnTo>
                <a:lnTo>
                  <a:pt x="1768" y="2124"/>
                </a:lnTo>
                <a:lnTo>
                  <a:pt x="1784" y="2113"/>
                </a:lnTo>
                <a:lnTo>
                  <a:pt x="1815" y="2089"/>
                </a:lnTo>
                <a:lnTo>
                  <a:pt x="1831" y="2089"/>
                </a:lnTo>
                <a:lnTo>
                  <a:pt x="1869" y="2063"/>
                </a:lnTo>
                <a:lnTo>
                  <a:pt x="1892" y="2039"/>
                </a:lnTo>
                <a:lnTo>
                  <a:pt x="1929" y="2014"/>
                </a:lnTo>
                <a:lnTo>
                  <a:pt x="1920" y="1983"/>
                </a:lnTo>
                <a:lnTo>
                  <a:pt x="1929" y="1975"/>
                </a:lnTo>
                <a:lnTo>
                  <a:pt x="1939" y="2008"/>
                </a:lnTo>
                <a:lnTo>
                  <a:pt x="1990" y="1960"/>
                </a:lnTo>
                <a:lnTo>
                  <a:pt x="2032" y="1961"/>
                </a:lnTo>
                <a:lnTo>
                  <a:pt x="2088" y="1975"/>
                </a:lnTo>
                <a:lnTo>
                  <a:pt x="2132" y="1967"/>
                </a:lnTo>
                <a:lnTo>
                  <a:pt x="2153" y="1965"/>
                </a:lnTo>
                <a:lnTo>
                  <a:pt x="2142" y="1943"/>
                </a:lnTo>
                <a:lnTo>
                  <a:pt x="2161" y="1945"/>
                </a:lnTo>
                <a:lnTo>
                  <a:pt x="2174" y="1963"/>
                </a:lnTo>
                <a:lnTo>
                  <a:pt x="2174" y="1978"/>
                </a:lnTo>
                <a:lnTo>
                  <a:pt x="2216" y="1981"/>
                </a:lnTo>
                <a:lnTo>
                  <a:pt x="2236" y="1983"/>
                </a:lnTo>
                <a:lnTo>
                  <a:pt x="2245" y="1973"/>
                </a:lnTo>
                <a:lnTo>
                  <a:pt x="2260" y="1990"/>
                </a:lnTo>
                <a:lnTo>
                  <a:pt x="2274" y="1994"/>
                </a:lnTo>
                <a:lnTo>
                  <a:pt x="2291" y="1990"/>
                </a:lnTo>
                <a:lnTo>
                  <a:pt x="2278" y="1965"/>
                </a:lnTo>
                <a:lnTo>
                  <a:pt x="2298" y="1963"/>
                </a:lnTo>
                <a:lnTo>
                  <a:pt x="2310" y="1970"/>
                </a:lnTo>
                <a:lnTo>
                  <a:pt x="2328" y="1986"/>
                </a:lnTo>
                <a:lnTo>
                  <a:pt x="2341" y="1981"/>
                </a:lnTo>
                <a:lnTo>
                  <a:pt x="2353" y="1966"/>
                </a:lnTo>
                <a:lnTo>
                  <a:pt x="2345" y="1945"/>
                </a:lnTo>
                <a:lnTo>
                  <a:pt x="2327" y="1939"/>
                </a:lnTo>
                <a:lnTo>
                  <a:pt x="2316" y="1927"/>
                </a:lnTo>
                <a:lnTo>
                  <a:pt x="2324" y="1906"/>
                </a:lnTo>
                <a:lnTo>
                  <a:pt x="2323" y="1886"/>
                </a:lnTo>
                <a:lnTo>
                  <a:pt x="2305" y="1886"/>
                </a:lnTo>
                <a:lnTo>
                  <a:pt x="2287" y="1906"/>
                </a:lnTo>
                <a:lnTo>
                  <a:pt x="2286" y="1880"/>
                </a:lnTo>
                <a:lnTo>
                  <a:pt x="2263" y="1895"/>
                </a:lnTo>
                <a:lnTo>
                  <a:pt x="2245" y="1902"/>
                </a:lnTo>
                <a:lnTo>
                  <a:pt x="2237" y="1888"/>
                </a:lnTo>
                <a:lnTo>
                  <a:pt x="2254" y="1865"/>
                </a:lnTo>
                <a:lnTo>
                  <a:pt x="2310" y="1878"/>
                </a:lnTo>
                <a:lnTo>
                  <a:pt x="2323" y="1853"/>
                </a:lnTo>
                <a:lnTo>
                  <a:pt x="2352" y="1844"/>
                </a:lnTo>
                <a:lnTo>
                  <a:pt x="2385" y="1853"/>
                </a:lnTo>
                <a:lnTo>
                  <a:pt x="2397" y="1844"/>
                </a:lnTo>
                <a:lnTo>
                  <a:pt x="2397" y="1814"/>
                </a:lnTo>
                <a:lnTo>
                  <a:pt x="2414" y="1851"/>
                </a:lnTo>
                <a:lnTo>
                  <a:pt x="2419" y="1865"/>
                </a:lnTo>
                <a:lnTo>
                  <a:pt x="2444" y="1850"/>
                </a:lnTo>
                <a:lnTo>
                  <a:pt x="2464" y="1826"/>
                </a:lnTo>
                <a:lnTo>
                  <a:pt x="2473" y="1841"/>
                </a:lnTo>
                <a:lnTo>
                  <a:pt x="2489" y="1847"/>
                </a:lnTo>
                <a:lnTo>
                  <a:pt x="2515" y="1835"/>
                </a:lnTo>
                <a:lnTo>
                  <a:pt x="2571" y="1824"/>
                </a:lnTo>
                <a:lnTo>
                  <a:pt x="2582" y="1838"/>
                </a:lnTo>
                <a:lnTo>
                  <a:pt x="2596" y="1855"/>
                </a:lnTo>
                <a:lnTo>
                  <a:pt x="2618" y="1860"/>
                </a:lnTo>
                <a:lnTo>
                  <a:pt x="2640" y="1862"/>
                </a:lnTo>
                <a:lnTo>
                  <a:pt x="2666" y="1851"/>
                </a:lnTo>
                <a:lnTo>
                  <a:pt x="2683" y="1833"/>
                </a:lnTo>
                <a:lnTo>
                  <a:pt x="2697" y="1827"/>
                </a:lnTo>
                <a:lnTo>
                  <a:pt x="2708" y="1835"/>
                </a:lnTo>
                <a:lnTo>
                  <a:pt x="2722" y="1851"/>
                </a:lnTo>
                <a:lnTo>
                  <a:pt x="2742" y="1871"/>
                </a:lnTo>
                <a:lnTo>
                  <a:pt x="2762" y="1878"/>
                </a:lnTo>
                <a:lnTo>
                  <a:pt x="2778" y="1881"/>
                </a:lnTo>
                <a:lnTo>
                  <a:pt x="2795" y="1901"/>
                </a:lnTo>
                <a:lnTo>
                  <a:pt x="2807" y="1923"/>
                </a:lnTo>
                <a:lnTo>
                  <a:pt x="2821" y="1939"/>
                </a:lnTo>
                <a:lnTo>
                  <a:pt x="2815" y="1970"/>
                </a:lnTo>
                <a:lnTo>
                  <a:pt x="2816" y="1996"/>
                </a:lnTo>
                <a:lnTo>
                  <a:pt x="2816" y="2014"/>
                </a:lnTo>
                <a:lnTo>
                  <a:pt x="2822" y="2029"/>
                </a:lnTo>
                <a:lnTo>
                  <a:pt x="2831" y="2031"/>
                </a:lnTo>
                <a:lnTo>
                  <a:pt x="2836" y="2004"/>
                </a:lnTo>
                <a:lnTo>
                  <a:pt x="2849" y="2019"/>
                </a:lnTo>
                <a:lnTo>
                  <a:pt x="2838" y="2041"/>
                </a:lnTo>
                <a:lnTo>
                  <a:pt x="2836" y="2059"/>
                </a:lnTo>
                <a:lnTo>
                  <a:pt x="2847" y="2068"/>
                </a:lnTo>
                <a:lnTo>
                  <a:pt x="2869" y="2092"/>
                </a:lnTo>
                <a:lnTo>
                  <a:pt x="2887" y="2097"/>
                </a:lnTo>
                <a:lnTo>
                  <a:pt x="2896" y="2128"/>
                </a:lnTo>
                <a:lnTo>
                  <a:pt x="2907" y="2134"/>
                </a:lnTo>
                <a:lnTo>
                  <a:pt x="2923" y="2167"/>
                </a:lnTo>
                <a:lnTo>
                  <a:pt x="2946" y="2179"/>
                </a:lnTo>
                <a:lnTo>
                  <a:pt x="2967" y="2188"/>
                </a:lnTo>
                <a:lnTo>
                  <a:pt x="2981" y="2214"/>
                </a:lnTo>
                <a:lnTo>
                  <a:pt x="3012" y="2208"/>
                </a:lnTo>
                <a:lnTo>
                  <a:pt x="3053" y="2199"/>
                </a:lnTo>
                <a:lnTo>
                  <a:pt x="3064" y="2149"/>
                </a:lnTo>
                <a:lnTo>
                  <a:pt x="3058" y="2116"/>
                </a:lnTo>
                <a:lnTo>
                  <a:pt x="3058" y="2060"/>
                </a:lnTo>
                <a:lnTo>
                  <a:pt x="3047" y="2044"/>
                </a:lnTo>
                <a:lnTo>
                  <a:pt x="3026" y="2016"/>
                </a:lnTo>
                <a:lnTo>
                  <a:pt x="3008" y="1986"/>
                </a:lnTo>
                <a:lnTo>
                  <a:pt x="2991" y="1947"/>
                </a:lnTo>
                <a:lnTo>
                  <a:pt x="2975" y="1903"/>
                </a:lnTo>
                <a:lnTo>
                  <a:pt x="2950" y="1862"/>
                </a:lnTo>
                <a:lnTo>
                  <a:pt x="2930" y="1833"/>
                </a:lnTo>
                <a:lnTo>
                  <a:pt x="2905" y="1792"/>
                </a:lnTo>
                <a:lnTo>
                  <a:pt x="2887" y="1757"/>
                </a:lnTo>
                <a:lnTo>
                  <a:pt x="2880" y="1727"/>
                </a:lnTo>
                <a:lnTo>
                  <a:pt x="2878" y="1704"/>
                </a:lnTo>
                <a:lnTo>
                  <a:pt x="2881" y="1684"/>
                </a:lnTo>
                <a:lnTo>
                  <a:pt x="2885" y="1676"/>
                </a:lnTo>
                <a:lnTo>
                  <a:pt x="2887" y="1628"/>
                </a:lnTo>
                <a:lnTo>
                  <a:pt x="2910" y="1584"/>
                </a:lnTo>
                <a:lnTo>
                  <a:pt x="2905" y="1556"/>
                </a:lnTo>
                <a:lnTo>
                  <a:pt x="2941" y="1546"/>
                </a:lnTo>
                <a:lnTo>
                  <a:pt x="2986" y="1497"/>
                </a:lnTo>
                <a:lnTo>
                  <a:pt x="3010" y="1418"/>
                </a:lnTo>
                <a:lnTo>
                  <a:pt x="3068" y="1390"/>
                </a:lnTo>
                <a:lnTo>
                  <a:pt x="3102" y="1316"/>
                </a:lnTo>
                <a:lnTo>
                  <a:pt x="3159" y="1294"/>
                </a:lnTo>
                <a:lnTo>
                  <a:pt x="3187" y="1238"/>
                </a:lnTo>
                <a:lnTo>
                  <a:pt x="3187" y="1198"/>
                </a:lnTo>
                <a:lnTo>
                  <a:pt x="3188" y="1164"/>
                </a:lnTo>
                <a:lnTo>
                  <a:pt x="3174" y="1165"/>
                </a:lnTo>
                <a:lnTo>
                  <a:pt x="3174" y="1223"/>
                </a:lnTo>
                <a:lnTo>
                  <a:pt x="3140" y="1265"/>
                </a:lnTo>
                <a:lnTo>
                  <a:pt x="3092" y="1276"/>
                </a:lnTo>
                <a:lnTo>
                  <a:pt x="3138" y="1251"/>
                </a:lnTo>
                <a:lnTo>
                  <a:pt x="3111" y="1238"/>
                </a:lnTo>
                <a:lnTo>
                  <a:pt x="3138" y="1232"/>
                </a:lnTo>
                <a:lnTo>
                  <a:pt x="3154" y="1233"/>
                </a:lnTo>
                <a:lnTo>
                  <a:pt x="3162" y="1200"/>
                </a:lnTo>
                <a:lnTo>
                  <a:pt x="3159" y="1169"/>
                </a:lnTo>
                <a:lnTo>
                  <a:pt x="3135" y="1169"/>
                </a:lnTo>
                <a:lnTo>
                  <a:pt x="3098" y="1185"/>
                </a:lnTo>
                <a:lnTo>
                  <a:pt x="3100" y="1155"/>
                </a:lnTo>
                <a:lnTo>
                  <a:pt x="3119" y="1167"/>
                </a:lnTo>
                <a:lnTo>
                  <a:pt x="3151" y="1151"/>
                </a:lnTo>
                <a:lnTo>
                  <a:pt x="3156" y="1136"/>
                </a:lnTo>
                <a:lnTo>
                  <a:pt x="3133" y="1127"/>
                </a:lnTo>
                <a:lnTo>
                  <a:pt x="3136" y="1092"/>
                </a:lnTo>
                <a:lnTo>
                  <a:pt x="3111" y="1078"/>
                </a:lnTo>
                <a:lnTo>
                  <a:pt x="3103" y="1090"/>
                </a:lnTo>
                <a:lnTo>
                  <a:pt x="3095" y="1065"/>
                </a:lnTo>
                <a:lnTo>
                  <a:pt x="3098" y="1039"/>
                </a:lnTo>
                <a:lnTo>
                  <a:pt x="3102" y="1011"/>
                </a:lnTo>
                <a:lnTo>
                  <a:pt x="3058" y="991"/>
                </a:lnTo>
                <a:lnTo>
                  <a:pt x="3070" y="985"/>
                </a:lnTo>
                <a:lnTo>
                  <a:pt x="3060" y="925"/>
                </a:lnTo>
                <a:lnTo>
                  <a:pt x="3058" y="891"/>
                </a:lnTo>
                <a:lnTo>
                  <a:pt x="3066" y="881"/>
                </a:lnTo>
                <a:lnTo>
                  <a:pt x="3068" y="931"/>
                </a:lnTo>
                <a:lnTo>
                  <a:pt x="3084" y="964"/>
                </a:lnTo>
                <a:lnTo>
                  <a:pt x="3109" y="996"/>
                </a:lnTo>
                <a:lnTo>
                  <a:pt x="3109" y="1057"/>
                </a:lnTo>
                <a:lnTo>
                  <a:pt x="3136" y="1062"/>
                </a:lnTo>
                <a:lnTo>
                  <a:pt x="3159" y="1000"/>
                </a:lnTo>
                <a:lnTo>
                  <a:pt x="3158" y="913"/>
                </a:lnTo>
                <a:lnTo>
                  <a:pt x="3129" y="888"/>
                </a:lnTo>
                <a:lnTo>
                  <a:pt x="3131" y="869"/>
                </a:lnTo>
                <a:lnTo>
                  <a:pt x="3165" y="889"/>
                </a:lnTo>
                <a:lnTo>
                  <a:pt x="3183" y="844"/>
                </a:lnTo>
                <a:lnTo>
                  <a:pt x="3185" y="806"/>
                </a:lnTo>
                <a:lnTo>
                  <a:pt x="3185" y="740"/>
                </a:lnTo>
                <a:lnTo>
                  <a:pt x="3169" y="720"/>
                </a:lnTo>
                <a:lnTo>
                  <a:pt x="3176" y="704"/>
                </a:lnTo>
                <a:lnTo>
                  <a:pt x="3189" y="722"/>
                </a:lnTo>
                <a:lnTo>
                  <a:pt x="3260" y="681"/>
                </a:lnTo>
                <a:lnTo>
                  <a:pt x="3310" y="636"/>
                </a:lnTo>
                <a:lnTo>
                  <a:pt x="3272" y="632"/>
                </a:lnTo>
                <a:lnTo>
                  <a:pt x="3219" y="667"/>
                </a:lnTo>
                <a:lnTo>
                  <a:pt x="3185" y="683"/>
                </a:lnTo>
                <a:lnTo>
                  <a:pt x="3209" y="648"/>
                </a:lnTo>
                <a:lnTo>
                  <a:pt x="3233" y="632"/>
                </a:lnTo>
                <a:lnTo>
                  <a:pt x="3247" y="638"/>
                </a:lnTo>
                <a:lnTo>
                  <a:pt x="3286" y="615"/>
                </a:lnTo>
                <a:lnTo>
                  <a:pt x="3294" y="594"/>
                </a:lnTo>
                <a:lnTo>
                  <a:pt x="3305" y="594"/>
                </a:lnTo>
                <a:lnTo>
                  <a:pt x="3319" y="583"/>
                </a:lnTo>
                <a:lnTo>
                  <a:pt x="3337" y="561"/>
                </a:lnTo>
                <a:lnTo>
                  <a:pt x="3366" y="574"/>
                </a:lnTo>
                <a:lnTo>
                  <a:pt x="3380" y="558"/>
                </a:lnTo>
                <a:lnTo>
                  <a:pt x="3393" y="537"/>
                </a:lnTo>
                <a:lnTo>
                  <a:pt x="3380" y="510"/>
                </a:lnTo>
                <a:lnTo>
                  <a:pt x="3362" y="493"/>
                </a:lnTo>
                <a:lnTo>
                  <a:pt x="3352" y="492"/>
                </a:lnTo>
                <a:lnTo>
                  <a:pt x="3338" y="499"/>
                </a:lnTo>
                <a:lnTo>
                  <a:pt x="3352" y="522"/>
                </a:lnTo>
                <a:lnTo>
                  <a:pt x="3358" y="536"/>
                </a:lnTo>
                <a:lnTo>
                  <a:pt x="3342" y="535"/>
                </a:lnTo>
                <a:lnTo>
                  <a:pt x="3324" y="508"/>
                </a:lnTo>
                <a:lnTo>
                  <a:pt x="3306" y="513"/>
                </a:lnTo>
                <a:lnTo>
                  <a:pt x="3310" y="493"/>
                </a:lnTo>
                <a:lnTo>
                  <a:pt x="3318" y="472"/>
                </a:lnTo>
                <a:lnTo>
                  <a:pt x="3303" y="469"/>
                </a:lnTo>
                <a:lnTo>
                  <a:pt x="3316" y="428"/>
                </a:lnTo>
                <a:lnTo>
                  <a:pt x="3312" y="403"/>
                </a:lnTo>
                <a:lnTo>
                  <a:pt x="3329" y="385"/>
                </a:lnTo>
                <a:lnTo>
                  <a:pt x="3319" y="359"/>
                </a:lnTo>
                <a:lnTo>
                  <a:pt x="3337" y="347"/>
                </a:lnTo>
                <a:lnTo>
                  <a:pt x="3356" y="331"/>
                </a:lnTo>
                <a:lnTo>
                  <a:pt x="3373" y="325"/>
                </a:lnTo>
                <a:lnTo>
                  <a:pt x="3380" y="284"/>
                </a:lnTo>
                <a:lnTo>
                  <a:pt x="3399" y="284"/>
                </a:lnTo>
                <a:lnTo>
                  <a:pt x="3427" y="263"/>
                </a:lnTo>
                <a:lnTo>
                  <a:pt x="3440" y="242"/>
                </a:lnTo>
                <a:lnTo>
                  <a:pt x="3462" y="222"/>
                </a:lnTo>
                <a:lnTo>
                  <a:pt x="3459" y="195"/>
                </a:lnTo>
                <a:lnTo>
                  <a:pt x="3428" y="181"/>
                </a:lnTo>
                <a:lnTo>
                  <a:pt x="3411" y="154"/>
                </a:lnTo>
                <a:lnTo>
                  <a:pt x="3378" y="154"/>
                </a:lnTo>
                <a:lnTo>
                  <a:pt x="3364" y="121"/>
                </a:lnTo>
                <a:lnTo>
                  <a:pt x="3359" y="87"/>
                </a:lnTo>
                <a:lnTo>
                  <a:pt x="3350" y="54"/>
                </a:lnTo>
                <a:lnTo>
                  <a:pt x="3337" y="13"/>
                </a:lnTo>
              </a:path>
            </a:pathLst>
          </a:custGeom>
          <a:solidFill>
            <a:srgbClr val="006666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1760" y="1743120"/>
            <a:ext cx="12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rkel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111440" y="2438280"/>
            <a:ext cx="187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rginia Te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31680" y="2460600"/>
            <a:ext cx="1302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rther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izo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19320" y="1776240"/>
            <a:ext cx="1016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MB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3520" y="4038480"/>
            <a:ext cx="8534160" cy="183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226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NSDL Goals (2000- )</a:t>
            </a: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Develop the National SMETE Digital Library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1" marL="490320" indent="-188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seamless access to services and re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a dynamic learning community that promotes and supports SMET education in the 21st centu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Expand Partnership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Expand Services and Community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33600" y="1095480"/>
            <a:ext cx="15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oQU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17000" y="1506600"/>
            <a:ext cx="172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h For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78720" y="1828800"/>
            <a:ext cx="7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75960" y="264960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dupri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40040" y="2678040"/>
            <a:ext cx="58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R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87640" y="205740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tah St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2390760"/>
            <a:ext cx="1054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LE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D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44160" y="2133720"/>
            <a:ext cx="88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K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760" y="2039760"/>
            <a:ext cx="5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29600" y="1981080"/>
            <a:ext cx="91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A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849440" y="2819520"/>
            <a:ext cx="75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57160" y="91440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b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0" y="457200"/>
            <a:ext cx="114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AC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05480" y="2590920"/>
            <a:ext cx="884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86400" y="3276720"/>
            <a:ext cx="3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19400" y="1219320"/>
            <a:ext cx="159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hn Wil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533520" y="22860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ww.smete.or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60240" y="2286000"/>
            <a:ext cx="127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nfo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18240" y="2039760"/>
            <a:ext cx="9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C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act Inform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andon Muramatsu, Project Director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ra@needs.org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15 Etcheverry Hall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ity of California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rkeley, CA 94720-1750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510) 643-1817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52480" y="6019920"/>
            <a:ext cx="725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pies of this presentation will be available a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ttp://www.needs.org/engineering/info/presentations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400" y="45716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a National Science, Mathematics, Engineering and Technology Education (SMETE)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gital Library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ision..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189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network of learning environments and resources for Science, Mathematics, Engineering and Technology education, will ultimately meet the needs of students and teachers at all levels—K-12, undergraduate, graduate, and lifelong learning—in both individual and collaborative settings.”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60520" y="44956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Towards A National SMETE Digital Library..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2819160"/>
            <a:ext cx="817272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April 1996 - NSF Committee Meeting (LIBUSE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wards a National Library for Undergraduate Science Education Resources in Science, Mathematics, Engineering and Technolog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August 1997 National Research Council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National Library for SME&amp;T Education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July 1998 National Science Foundation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ETE-Lib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January 1999 National Science Foundation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Libraries and Education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15238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NSF Establish and Fund a National Science, Mathematics, Engineering and Technology Education Digital Libra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5029200"/>
            <a:ext cx="310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unding throug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gital Librar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itiative – Phase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d NSDL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EDS—The National Engineering Education Delivery System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ww.needs.org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909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440" y="1635120"/>
            <a:ext cx="2479680" cy="3492360"/>
          </a:xfrm>
          <a:prstGeom prst="rect">
            <a:avLst/>
          </a:prstGeom>
          <a:solidFill>
            <a:srgbClr val="b2b2b2"/>
          </a:solidFill>
          <a:ln w="1260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t">
            <a:noAutofit/>
          </a:bodyPr>
          <a:p>
            <a:pPr marL="276120" indent="-276120">
              <a:lnSpc>
                <a:spcPct val="88000"/>
              </a:lnSpc>
              <a:spcBef>
                <a:spcPts val="1049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li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6120" indent="-276120">
              <a:lnSpc>
                <a:spcPct val="90000"/>
              </a:lnSpc>
              <a:spcBef>
                <a:spcPts val="751"/>
              </a:spcBef>
              <a:buClr>
                <a:srgbClr val="4d4d4d"/>
              </a:buClr>
              <a:buSzPct val="50000"/>
              <a:buFont typeface="Monotype Sorts" charset="2"/>
              <a:buChar char="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Classroo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6120" indent="-276120">
              <a:lnSpc>
                <a:spcPct val="90000"/>
              </a:lnSpc>
              <a:spcBef>
                <a:spcPts val="751"/>
              </a:spcBef>
              <a:buClr>
                <a:srgbClr val="4d4d4d"/>
              </a:buClr>
              <a:buSzPct val="50000"/>
              <a:buFont typeface="Monotype Sorts" charset="2"/>
              <a:buChar char="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Instructional La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6120" indent="-276120">
              <a:lnSpc>
                <a:spcPct val="90000"/>
              </a:lnSpc>
              <a:spcBef>
                <a:spcPts val="751"/>
              </a:spcBef>
              <a:buClr>
                <a:srgbClr val="4d4d4d"/>
              </a:buClr>
              <a:buSzPct val="50000"/>
              <a:buFont typeface="Monotype Sorts" charset="2"/>
              <a:buChar char="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Small Study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6120" indent="-276120">
              <a:lnSpc>
                <a:spcPct val="90000"/>
              </a:lnSpc>
              <a:spcBef>
                <a:spcPts val="751"/>
              </a:spcBef>
              <a:buClr>
                <a:srgbClr val="4d4d4d"/>
              </a:buClr>
              <a:buSzPct val="50000"/>
              <a:buFont typeface="Monotype Sorts" charset="2"/>
              <a:buChar char="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Resid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6120" indent="-276120">
              <a:lnSpc>
                <a:spcPct val="90000"/>
              </a:lnSpc>
              <a:spcBef>
                <a:spcPts val="751"/>
              </a:spcBef>
              <a:buClr>
                <a:srgbClr val="4d4d4d"/>
              </a:buClr>
              <a:buSzPct val="50000"/>
              <a:buFont typeface="Monotype Sorts" charset="2"/>
              <a:buChar char="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6120" indent="-276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yw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545160" y="1612800"/>
            <a:ext cx="2516400" cy="3514680"/>
          </a:xfrm>
          <a:prstGeom prst="rect">
            <a:avLst/>
          </a:prstGeom>
          <a:solidFill>
            <a:srgbClr val="b2b2b2"/>
          </a:solidFill>
          <a:ln w="1260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t">
            <a:noAutofit/>
          </a:bodyPr>
          <a:p>
            <a:pPr marL="276120" indent="-276120">
              <a:lnSpc>
                <a:spcPct val="88000"/>
              </a:lnSpc>
              <a:spcBef>
                <a:spcPts val="1049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6120" indent="-276120">
              <a:lnSpc>
                <a:spcPct val="90000"/>
              </a:lnSpc>
              <a:spcBef>
                <a:spcPts val="751"/>
              </a:spcBef>
              <a:buClr>
                <a:srgbClr val="4d4d4d"/>
              </a:buClr>
              <a:buSzPct val="50000"/>
              <a:buFont typeface="Monotype Sorts" charset="2"/>
              <a:buChar char="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Courseware Studi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6120" indent="-276120">
              <a:lnSpc>
                <a:spcPct val="90000"/>
              </a:lnSpc>
              <a:spcBef>
                <a:spcPts val="751"/>
              </a:spcBef>
              <a:buClr>
                <a:srgbClr val="4d4d4d"/>
              </a:buClr>
              <a:buSzPct val="50000"/>
              <a:buFont typeface="Monotype Sorts" charset="2"/>
              <a:buChar char="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Instructional La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6120" indent="-276120">
              <a:lnSpc>
                <a:spcPct val="90000"/>
              </a:lnSpc>
              <a:spcBef>
                <a:spcPts val="751"/>
              </a:spcBef>
              <a:buClr>
                <a:srgbClr val="4d4d4d"/>
              </a:buClr>
              <a:buSzPct val="50000"/>
              <a:buFont typeface="Monotype Sorts" charset="2"/>
              <a:buChar char="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Faculty Offices &amp; Resid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6120" indent="-276120">
              <a:lnSpc>
                <a:spcPct val="90000"/>
              </a:lnSpc>
              <a:spcBef>
                <a:spcPts val="751"/>
              </a:spcBef>
              <a:buClr>
                <a:srgbClr val="4d4d4d"/>
              </a:buClr>
              <a:buSzPct val="50000"/>
              <a:buFont typeface="Monotype Sorts" charset="2"/>
              <a:buChar char="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6120" indent="-276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yw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84440" y="2666880"/>
            <a:ext cx="2224080" cy="2430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 flipH="1" flipV="1">
            <a:off x="2514600" y="3452400"/>
            <a:ext cx="1278000" cy="5986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334120" y="3452400"/>
            <a:ext cx="1218960" cy="5986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0360" y="2133720"/>
            <a:ext cx="131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56545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S is the foundation for the National SMETE Digital Library at www.smete.or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6320" y="0"/>
          <a:ext cx="5083200" cy="12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0"/>
                    <a:ext cx="508320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5332680" y="304920"/>
            <a:ext cx="31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ww.needs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Is NEEDS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Digital Library of Multimedia Engineering Courseware</a:t>
            </a: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bliographic records with downloadable course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media elements - downloadable movies, images, and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Multilevel Courseware Evaluation System</a:t>
            </a: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er Review of Course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remier Award for Excellence in Engineering Education Course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Expanding Services and Features</a:t>
            </a: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081920" y="344520"/>
            <a:ext cx="2057400" cy="8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How does NEEDS help users 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“re-use” learning materials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Provides mechanisms to help user locate materials</a:t>
            </a: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s standardized descriptions (metadata) to describe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Provides mechanisms to help users evaluate the “quality  of materials”</a:t>
            </a: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Developed upon an extendable platform to:</a:t>
            </a: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  <a:p>
            <a:pPr lvl="1" marL="698400" indent="-268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multiple us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grate new services and featur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grate researc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081920" y="344520"/>
            <a:ext cx="2057400" cy="8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2T23:16:11Z</dcterms:created>
  <dc:creator>Robert</dc:creator>
  <dc:description/>
  <dc:language>en-US</dc:language>
  <cp:lastModifiedBy>Brandon</cp:lastModifiedBy>
  <cp:lastPrinted>2000-06-07T16:40:49Z</cp:lastPrinted>
  <dcterms:modified xsi:type="dcterms:W3CDTF">2000-07-05T22:07:02Z</dcterms:modified>
  <cp:revision>176</cp:revision>
  <dc:subject/>
  <dc:title>No Slide Title</dc:title>
</cp:coreProperties>
</file>